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A4E25-4365-46CC-A36A-6D20EA94A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E353F-5CA4-4EF6-A31C-3C485F1D0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38699-869A-4396-B572-C5FA364A9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8E613-74FA-42DC-A305-A241B752C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9A4D9-FE8E-4FF2-B51E-C0DADC0F3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1693B-8584-4151-BCA3-331165B85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76FBC-1451-47AA-B426-4A644E526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D7565-BA50-4371-8403-C7D6F6A80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6F36-E07F-4891-934E-856F8FB0A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D5A58-0B9C-4353-AC02-6AD9B8A8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2C21A-0849-4B72-A4A4-402F97038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8C4F-08E6-44CC-B79B-101ED0D0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D38A-D730-449A-94BC-DE7A0EE8C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01EEB-7EAA-4AFC-9C8E-5FF41ECD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9860E-7F4C-4429-BE2C-D10201130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89358-DFEB-453C-9DD0-5A9558FD6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9C5B1-B56C-4A53-AF9C-3090DFA40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E939B1-2914-4941-8F8A-5D9D1BAFD7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885B45-415B-416C-9DF4-7E8F7CF7E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461AD7-AA52-406E-88D8-5BD1B076A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EEE824-11AC-4A3E-A006-F2065C584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8E5D4A-719F-4DA8-A37F-D066E2977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C99B-F920-42D6-BD9A-D8C8D119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DC6EF0-871A-41A4-97A0-2E53528E0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1B70AA-7691-4043-B000-99A53B9D9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F03409-E22D-42AA-AD28-94E11DB4E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D9FF82-C7F8-4D45-8AC5-9600993BC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1ABC12-4E16-4FCD-B536-68A927504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03F7DB1-9611-4D84-B8E9-336DE78B87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A7FB9E-0B53-4A90-A4F7-B42539FFB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4E38F-54E6-493B-A5F9-06082CEF4C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3224B-9BA3-492C-903C-91C730E7B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1455D-1C8E-4916-ABBE-11BC9DC58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1E1C2-F1D6-4F2D-96BD-7E3C18B8F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041E1-ADC5-4047-8DDB-52FB9B720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41FEE-12C3-49FC-B6B5-B97DAC55E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A863F-11A8-499F-9C8C-450FFC329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9C8D3-7042-4922-ABA9-D88050E44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87389-0EBF-44C6-A7C3-6A89B0711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DE529-C061-4E29-B92D-451110992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F4436-2841-493A-9B04-F42555490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E586DE-F22C-49A1-8082-23C58785C7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B3394B-22D2-4E27-B8AD-E4193FF36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91354C-5047-4E9D-A567-BC5317BE2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0F75-6728-4987-99D4-2D3CAA54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FC61E7-E41B-4328-BFD1-D8D3B30C7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84D9A4-47CB-4E89-8D84-7CC972E1A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B0F13D-EF10-4534-A3D0-F8FA69E86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3AAF9B-D619-4781-9237-79D8B775A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D8F8C9-6F93-4EB3-886F-949731B9C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08DD23-7BCE-498B-B007-C917C39D7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B8E4DF-84F4-468D-8CB0-518CF56E1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DD64AA-E98A-4EB9-8921-F4090F064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8639ED-037A-4282-8128-4016005CA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597429-FE9E-4747-9A9F-12816C572D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9F8E-8794-4AE7-BBC8-3E4281BD1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21F337-D4FE-408A-8A4E-3FEA65AA6B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EEC939B-6F1A-47A6-A9B6-C22B8699A9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DCDF9F7-D5EF-46CE-9069-433E37E56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D216A1-ABC4-4089-9D77-6CC3468C6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7D75206-7096-402F-9053-EA91F63D2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0E5CBF-2199-4E93-A86C-A7E942DE8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DF2F05-D836-4E9D-B6EB-39260D344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D2A2D5-7A03-489C-9F7A-CAFDB97A9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60C20C-B679-40FB-838D-83CB595C8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4AF871B-1069-4380-9666-1132585B5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6BFD-AECA-40CC-831A-3CA603761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7D8609-9DF8-40F5-968E-232E0CE80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DF972B-E634-4CA5-827F-5D7C5D1AFC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D32A498-42EF-4116-9636-89422E589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B81E7A4-3248-4403-B2EA-AE1F87D2E8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6459EE-EB28-4997-ADB1-DFCD6EB57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1455545-B5B5-4B93-9438-C9BD86A6B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12B332-5D83-4395-B22B-4C5009D00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ABE3E9-A751-4046-8261-9F0EFCA5E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44392F-BAD1-4DF4-AEA1-D0D5E8FD0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8D6F69-6C33-40A5-A89C-D579431EF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CF33-741C-49DB-A38A-453F8CE0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D30A4E-A07B-433A-A118-6A898811E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3B538E-DF16-4702-8420-3AB748DB8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5D8F7A-E2CD-4F1B-8502-5A8579C69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4DA7EB6-F436-4697-98B8-1A9286AD0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7A878C2-E022-4844-8CAE-E7853B733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335A-C52A-44C5-BD29-1962ADAA4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93935-13A6-403B-A008-C97AB87205E2}"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79A93-945B-436E-8597-A0879EAB6E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82547-D986-4032-AFCE-C7C0BF7A49EB}"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5ADC0-6825-4C8D-B119-ACD675AF5E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DC918-C761-4FA0-BD10-3898D0712376}"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8EA52-727B-4124-B21F-ABFDA9B99A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EA5CF-D658-406D-B764-1EC5393C5C22}" type="datetime">
              <a:rPr b="0" lang="en-US" sz="1200" spc="-1" strike="noStrike">
                <a:solidFill>
                  <a:srgbClr val="fff39d"/>
                </a:solidFill>
                <a:latin typeface="Times New Roman"/>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E31E5-9078-4C8E-B6F0-9C37C74905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71DB7-8EA0-4E6C-9D9B-4A4F418D8016}"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1DC2A-9A22-4F19-BB3D-5C457C753C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819D3-19DF-4593-B51B-C85220D27E98}"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FCF8C-7674-4D9A-86FC-D1FD4D16E5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80CE0-C264-4F36-AAA7-895CDEB0E5A0}"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ED732-E3E9-4A67-B746-11A9BBAEC5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