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F9E35-D89D-4C5D-B07F-E2543FB1B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99265-5589-4F82-9F58-618486A1E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48CC9-2907-472F-A308-AFB54292B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DB558-4F54-4941-9774-90086ED14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49842-3BDD-4BB7-8850-7EAE24558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CE818-7BAD-47B1-8A5C-E8A78CD7F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B99F7-977D-49BF-91EB-9DEFF01E7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0020F-8DE6-4B7B-8B0E-42F123F67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45F22-E621-4653-9229-4BB4FACA4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EFE0F-27EC-489B-839C-7EAF0775E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9665B-940D-4A52-A506-F9C4B0380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B9200-15DD-4B6C-9617-F91E73953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73313-209A-4174-B54C-2D6E105B0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10ED7-B017-4129-950D-2BEA1DA08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6B707-73B1-4590-84FF-6DB70E73D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9F7AC-86BF-4365-9333-03649A72E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D0980-0EBA-4B34-B9E9-2F66817DD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E3A2251-790D-4B5C-8AC7-5A448DBC22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854CB75-B84C-4895-BFC6-E3C89BCDA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00A22F-8440-42C0-B50A-1E15F06B15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8A8408-E276-47CA-8A86-2C0578D0F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FA6277-531F-4532-9F91-239B5C5A2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756F5-654D-47B0-BFEA-BEEB3F060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CEA806-4476-4F67-BD95-75B8B8635B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7E87E0-215F-4FDF-BFF7-3EB59130E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72F86A-9467-49BF-B59C-0D51E208F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2AD38A-4EF8-46BD-9ED7-744E049A6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A484B9B-A07C-4A6C-88E2-0AE258CA6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61C2509-F2CA-4C56-9623-B42E6F50D4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39BCC8A-CFCF-4612-823B-3B7CEA16BB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51CA77-0B75-4AEF-B97F-B43B5716FA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D2A8A5-9D37-4CE4-A90F-A437AB161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5929C-1E5B-443C-878E-753256565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71E32-5616-4162-9106-49753D45E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180410-53E9-4542-9554-EF6EA778EC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CD1469-B87D-48FC-BBB3-3BC627978A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15DB6A-9305-4B41-8867-A67F2912C3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233FF-3E87-424F-8E1B-B3DA50E66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25DED4-4032-4761-974F-17E01B739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83543A-5C01-4E4A-8E31-BDB03504F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FD17EB-FE8F-4FC5-B766-D5A4D63A2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5A207D-5131-42A8-9F0C-466F76263E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07CD96-9FBE-448C-8BB4-3E5B0BA20C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D51107F-F77F-4806-835F-497C8320BE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18267-2D73-4C1A-9B32-DD240ABA3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1014812-2DC1-4DCB-9348-7A4DEF4CD1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88C35DF-0FFB-4CDB-9915-8BC64E4B1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A0BA82-335E-4D43-8150-A43A194CD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2E2007-688B-4507-87C6-A6FDEADFFF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2871783-8275-4827-8B0B-36D1B96ED1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102864-FF24-45B0-A8BB-EADEF48C6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2860FB-7153-4609-B1FB-CF12305D0B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11C200-E4B6-440E-83AE-EBADAE096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E86F6A-6043-415F-A133-972A28DBC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1AB48A0-9C1E-4DAC-B150-480D9F7191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03FD4-9952-4700-9EF9-E4EA7AC8B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9B466A4-28C0-4DCB-A915-1A2392ABC4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CE6313F-7D0A-4BEF-B084-C30EBC6E38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76188BC-A73E-44F0-AE62-EA4CA6AFCC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6D33FFE-6CB1-4507-A5E3-DDF9ECD17B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FF44216-1548-4785-B676-7747DFCD11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0931BD2-BBC4-4294-8314-B1FCF160A1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0A1CDFC-CC54-4AC8-A90B-87438D715B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5471E56-71CF-41A1-A2E1-CCD1845B4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AA8C136-1B16-4104-9A79-72066E1B93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DBB9D52-F3CA-45C9-B424-7252DA45F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80D09-8BAB-4965-BC33-802E69E37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0DDDD38-BAF5-4914-867A-87A4E5B044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CF2D613-A08F-4D8B-9C91-B6F686DEAB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D252D15-50E3-4DD4-AE9E-4868C1D252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07AF419-16F5-4C01-87B5-87921F3624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6A13F74-812B-421E-964C-CA3CF771E9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FB66EA6-4765-45B1-8B99-FE37A6B5A1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40C9EDF-5DC0-4048-9C55-3A056BF998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BB4A656-12AF-459B-AC91-D0C1E03401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307191F-4101-4114-892A-AD99AF0B2A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E339F7D-E4C1-4C3B-BE0C-77B578A85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F143D-37A0-4269-9DD4-5789E4B75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00286B8-F0BE-4568-8162-A8D5EDF90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F14DA69-23C2-46C0-9CB7-D51995B4B4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0299FD2-D93E-4B2F-90E0-538D49DDAD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EB70739-29D7-493F-8348-43E364D5F5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4701653-20AA-48C1-AC7D-849279C08E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4B102-71C4-443F-A3C8-6F9D1B99F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2E2DA-F4BE-4AD4-A197-FF5E08BBEAE6}"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7BF00-0460-4C18-A997-866E3F6A67C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3116C-4D5F-436D-B9AD-9AB865EEC841}"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917B5-382B-4F38-9D10-F90FAE7F3A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1C84B-6C43-4516-BAB5-98BE412F2C1D}"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39089-588C-4340-B507-46CC458E1FB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80503-8CF2-4F82-B796-1425367CA4FA}" type="datetime">
              <a:rPr b="0" lang="en-US" sz="1200" spc="-1" strike="noStrike">
                <a:solidFill>
                  <a:srgbClr val="fff39d"/>
                </a:solidFill>
                <a:latin typeface="Times New Roman"/>
              </a:rPr>
              <a:t>07/31/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AAEF8-65C4-42C1-9064-84731B010C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74CD4-5542-4B39-A103-AC0F7484B8EF}"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11696-B637-4917-B245-ECEE7CE6E9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0D72E-21EC-4C12-AB2E-D06307063E0C}"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1F2BC-30FB-4BAB-BDF0-E8D4FC54C4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786A4-5547-4F4F-9000-BDBE72AE8BA9}"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181B2-2C21-4BE1-98E9-ADC86C3796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Y-AS13fl30" TargetMode="External"/><Relationship Id="rId2" Type="http://schemas.openxmlformats.org/officeDocument/2006/relationships/hyperlink" Target="http://www.youtube.com/watch?v=5D2cLj28Pc8"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mHLvtGjum4" TargetMode="External"/><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1720" y="1095480"/>
            <a:ext cx="7407000" cy="1473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TEACHING THE QUANTITATIVE ANALYSIS OF CIRUITS</a:t>
            </a:r>
            <a:br>
              <a:rPr sz="3600"/>
            </a:br>
            <a:br>
              <a:rPr sz="3600"/>
            </a:br>
            <a:r>
              <a:rPr b="1" lang="en-US" sz="1800" spc="-1" strike="noStrike">
                <a:solidFill>
                  <a:srgbClr val="575f6d"/>
                </a:solidFill>
                <a:latin typeface="Century Schoolbook"/>
              </a:rPr>
              <a:t>ROBERT SHAW</a:t>
            </a:r>
            <a:br>
              <a:rPr sz="1800"/>
            </a:br>
            <a:r>
              <a:rPr b="1" lang="en-US" sz="1800" spc="-1" strike="noStrike">
                <a:solidFill>
                  <a:srgbClr val="575f6d"/>
                </a:solidFill>
                <a:latin typeface="Century Schoolbook"/>
              </a:rPr>
              <a:t>VERNY THURAIRAJAH</a:t>
            </a:r>
            <a:endParaRPr b="0" lang="en-US" sz="1800" spc="-1" strike="noStrike">
              <a:solidFill>
                <a:srgbClr val="575f6d"/>
              </a:solidFill>
              <a:latin typeface="Century Schoolbook"/>
            </a:endParaRPr>
          </a:p>
        </p:txBody>
      </p:sp>
      <p:pic>
        <p:nvPicPr>
          <p:cNvPr id="352" name="Picture 3" descr="Kirchoff_cct_diagram.gif"/>
          <p:cNvPicPr/>
          <p:nvPr/>
        </p:nvPicPr>
        <p:blipFill>
          <a:blip r:embed="rId1"/>
          <a:stretch/>
        </p:blipFill>
        <p:spPr>
          <a:xfrm>
            <a:off x="2943360" y="2989440"/>
            <a:ext cx="3809880" cy="32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1720" y="220320"/>
            <a:ext cx="7407000" cy="95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POTENTIAL STUDENT DIFFICULTIES</a:t>
            </a:r>
            <a:endParaRPr b="0" lang="en-US" sz="3000" spc="-1" strike="noStrike">
              <a:solidFill>
                <a:srgbClr val="575f6d"/>
              </a:solidFill>
              <a:latin typeface="Century Schoolbook"/>
            </a:endParaRPr>
          </a:p>
        </p:txBody>
      </p:sp>
      <p:sp>
        <p:nvSpPr>
          <p:cNvPr id="377" name="PlaceHolder 2"/>
          <p:cNvSpPr>
            <a:spLocks noGrp="1"/>
          </p:cNvSpPr>
          <p:nvPr>
            <p:ph type="subTitle"/>
          </p:nvPr>
        </p:nvSpPr>
        <p:spPr>
          <a:xfrm>
            <a:off x="1431720" y="1535040"/>
            <a:ext cx="6724440" cy="4314960"/>
          </a:xfrm>
          <a:prstGeom prst="rect">
            <a:avLst/>
          </a:prstGeom>
          <a:noFill/>
          <a:ln w="0">
            <a:noFill/>
          </a:ln>
        </p:spPr>
        <p:txBody>
          <a:bodyPr lIns="90000" rIns="90000" tIns="46800" bIns="46800" anchor="t">
            <a:noAutofit/>
          </a:bodyPr>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Abstract concepts of voltage, current, and power – may be hard for students to differentiate with clarit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Units of measurement are varied from Tera to nano.  Conversions are needed frequentl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Terminology is dense.  Embracing many concepts Polarity, DC/AC,   resistance and capacitance.</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electron flow (negative to positive), and a a purely figurative positive unit of charge flow (positive to negative). </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parallel and serial circuits.  When a circuit loop has few components its easy to get confused.</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For complex circuits it can be challenging to find the nodes and the current loops.  Both are needed to apply Kirchoff’s voltage laws.</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Breadboard work is not as simple and quick as simulator, and it requires dexterity, planning, and debug skills.</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388880" y="280800"/>
            <a:ext cx="740556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OLUTIONS TO STUDENT DIFFICULTIES</a:t>
            </a:r>
            <a:endParaRPr b="0" lang="en-US" sz="3000" spc="-1" strike="noStrike">
              <a:solidFill>
                <a:srgbClr val="575f6d"/>
              </a:solidFill>
              <a:latin typeface="Century Schoolbook"/>
            </a:endParaRPr>
          </a:p>
        </p:txBody>
      </p:sp>
      <p:sp>
        <p:nvSpPr>
          <p:cNvPr id="379" name="PlaceHolder 2"/>
          <p:cNvSpPr>
            <a:spLocks noGrp="1"/>
          </p:cNvSpPr>
          <p:nvPr>
            <p:ph type="subTitle"/>
          </p:nvPr>
        </p:nvSpPr>
        <p:spPr>
          <a:xfrm>
            <a:off x="1388880" y="1168560"/>
            <a:ext cx="7405560" cy="5217840"/>
          </a:xfrm>
          <a:prstGeom prst="rect">
            <a:avLst/>
          </a:prstGeom>
          <a:noFill/>
          <a:ln w="0">
            <a:noFill/>
          </a:ln>
        </p:spPr>
        <p:txBody>
          <a:bodyPr lIns="90000" rIns="90000" tIns="46800" bIns="46800" anchor="t">
            <a:noAutofit/>
          </a:bodyPr>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Interactive videos and power points cover the abstract concepts, this will be online for reference and self paced learning.</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onversion of units can be done with teams and groups on flipcharts and on the board in class summary and recaps.</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uring jigsaw group activity system experts can collaboratively teach the denser concept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reate diagrams of individual components to illustrate the physics and flow of electronics.   Only use flow of positive charge on circuits.  The seperation of component versus circuit helps students to grasp the different polarity flow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Have students work in groups with circuits in a pictionary style activity to differentiate between parallel and serial circuits, nodes and current loops.  Students thrive on gaming.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emonstrate good breadboard planning, design, and wiring.  The biggest problems are with unplanned disorganized circuits.  Collect and diagnostically evaluate each groups performance.</a:t>
            </a:r>
            <a:endParaRPr b="0" lang="en-US" sz="17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1720" y="264600"/>
            <a:ext cx="7407000" cy="91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AFETY CONSIDERATIONS</a:t>
            </a:r>
            <a:endParaRPr b="0" lang="en-US" sz="3000" spc="-1" strike="noStrike">
              <a:solidFill>
                <a:srgbClr val="575f6d"/>
              </a:solidFill>
              <a:latin typeface="Century Schoolbook"/>
            </a:endParaRPr>
          </a:p>
        </p:txBody>
      </p:sp>
      <p:sp>
        <p:nvSpPr>
          <p:cNvPr id="381" name="PlaceHolder 2"/>
          <p:cNvSpPr>
            <a:spLocks noGrp="1"/>
          </p:cNvSpPr>
          <p:nvPr>
            <p:ph type="subTitle"/>
          </p:nvPr>
        </p:nvSpPr>
        <p:spPr>
          <a:xfrm>
            <a:off x="1031400" y="1385640"/>
            <a:ext cx="4102200" cy="3995640"/>
          </a:xfrm>
          <a:prstGeom prst="rect">
            <a:avLst/>
          </a:prstGeom>
          <a:noFill/>
          <a:ln w="0">
            <a:noFill/>
          </a:ln>
        </p:spPr>
        <p:txBody>
          <a:bodyPr lIns="90000" rIns="90000" tIns="46800" bIns="46800" anchor="t">
            <a:noAutofit/>
          </a:bodyPr>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A DC circuit lab concern is short circuits overheating. Checking voltages, and a sense of smell avoids this.</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utting of wire needs to be done pulling outwards from the body.</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lean up to prevent tripping hazards.</a:t>
            </a:r>
            <a:endParaRPr b="0" lang="en-US" sz="1800" spc="-1" strike="noStrike">
              <a:solidFill>
                <a:srgbClr val="000000"/>
              </a:solidFill>
              <a:latin typeface="Century Schoolbook"/>
            </a:endParaRPr>
          </a:p>
        </p:txBody>
      </p:sp>
      <p:pic>
        <p:nvPicPr>
          <p:cNvPr id="382" name="Picture 6" descr="http://www.outbackmarine.com.au/public/upload/media/ElectricalCartoon.gif"/>
          <p:cNvPicPr/>
          <p:nvPr/>
        </p:nvPicPr>
        <p:blipFill>
          <a:blip r:embed="rId1"/>
          <a:stretch/>
        </p:blipFill>
        <p:spPr>
          <a:xfrm>
            <a:off x="5462640" y="1968480"/>
            <a:ext cx="3535200" cy="38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entury Schoolbook"/>
              </a:rPr>
              <a:t>Practical Applications</a:t>
            </a:r>
            <a:endParaRPr b="0" lang="en-US" sz="4200" spc="-1" strike="noStrike">
              <a:solidFill>
                <a:srgbClr val="000000"/>
              </a:solidFill>
              <a:latin typeface="Arial"/>
            </a:endParaRPr>
          </a:p>
        </p:txBody>
      </p:sp>
      <p:sp>
        <p:nvSpPr>
          <p:cNvPr id="384" name="Subtitle 2"/>
          <p:cNvSpPr/>
          <p:nvPr/>
        </p:nvSpPr>
        <p:spPr>
          <a:xfrm>
            <a:off x="1432080" y="1143000"/>
            <a:ext cx="4300560" cy="209088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The Flasher Circuit </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 multi loop circuit, that varies flashing with resistance, used with Kirchoff’s laws.</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1"/>
              </a:rPr>
              <a:t>Tesla Coil</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 cool voltage device that creates lightning strikes, used in fundamentals of electricity.</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2"/>
              </a:rPr>
              <a:t>Capacitor Charge Dissipation</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charge dissipation for electric plates.</a:t>
            </a:r>
            <a:endParaRPr b="0" lang="en-US" sz="2600" spc="-1" strike="noStrike">
              <a:solidFill>
                <a:srgbClr val="000000"/>
              </a:solidFill>
              <a:latin typeface="Arial"/>
            </a:endParaRPr>
          </a:p>
        </p:txBody>
      </p:sp>
      <p:pic>
        <p:nvPicPr>
          <p:cNvPr id="385" name="Picture 7" descr="http://schtee.net/openMUTT/blog/wp-content/uploads/2008/03/flasher_circuit.jpg"/>
          <p:cNvPicPr/>
          <p:nvPr/>
        </p:nvPicPr>
        <p:blipFill>
          <a:blip r:embed="rId3"/>
          <a:stretch/>
        </p:blipFill>
        <p:spPr>
          <a:xfrm>
            <a:off x="6100920" y="1143000"/>
            <a:ext cx="2738160" cy="1746360"/>
          </a:xfrm>
          <a:prstGeom prst="rect">
            <a:avLst/>
          </a:prstGeom>
          <a:ln w="0">
            <a:noFill/>
          </a:ln>
        </p:spPr>
      </p:pic>
      <p:pic>
        <p:nvPicPr>
          <p:cNvPr id="386" name="Picture 11" descr="http://rajapakse.info/tesla-coil.jpg"/>
          <p:cNvPicPr/>
          <p:nvPr/>
        </p:nvPicPr>
        <p:blipFill>
          <a:blip r:embed="rId4"/>
          <a:stretch/>
        </p:blipFill>
        <p:spPr>
          <a:xfrm>
            <a:off x="6100920" y="3611520"/>
            <a:ext cx="2833560" cy="29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1720" y="145800"/>
            <a:ext cx="7407000" cy="84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DIFFERENTIATED ASSESSMENT</a:t>
            </a:r>
            <a:endParaRPr b="0" lang="en-US" sz="3000" spc="-1" strike="noStrike">
              <a:solidFill>
                <a:srgbClr val="575f6d"/>
              </a:solidFill>
              <a:latin typeface="Century Schoolbook"/>
            </a:endParaRPr>
          </a:p>
        </p:txBody>
      </p:sp>
      <p:sp>
        <p:nvSpPr>
          <p:cNvPr id="388" name="Subtitle 2"/>
          <p:cNvSpPr/>
          <p:nvPr/>
        </p:nvSpPr>
        <p:spPr>
          <a:xfrm>
            <a:off x="847800" y="1192320"/>
            <a:ext cx="799128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been assessed in the labs in a number of applied means:</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drawing parallel, serial circuits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using components and a breadboard (Kinesthe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adding tools, running simulations, generating graphs, data tables (Virtual,  Analytical,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Video about the Ohms Law, and Kirchoff’s Law’s (Linguis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conducting jigsaw expert training (Intra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Lessons on terminology,  laws,  charts and conversions taught to the class (Inter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Demonstration of the DMM and measurements made on the bread boards.  Demonstration of simulator tool. (Visual, Kinesthetic)  </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Exemplar of circuit planning,  design, layout, and wiring techniques. (Visual)</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evaluated on unit test, exercises, and lab questions (Logic)</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Formative assessment based on lab work and unit test. (Summative/Form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INTRODUCTION TO ELECTRICITY AND ELECTRONIC CIRCUITS</a:t>
            </a:r>
            <a:endParaRPr b="0" lang="en-US" sz="3500" spc="-1" strike="noStrike">
              <a:solidFill>
                <a:srgbClr val="575f6d"/>
              </a:solidFill>
              <a:latin typeface="Century Schoolbook"/>
            </a:endParaRPr>
          </a:p>
        </p:txBody>
      </p:sp>
      <p:sp>
        <p:nvSpPr>
          <p:cNvPr id="354" name=""/>
          <p:cNvSpPr txBox="1"/>
          <p:nvPr/>
        </p:nvSpPr>
        <p:spPr>
          <a:xfrm>
            <a:off x="1434960" y="1447560"/>
            <a:ext cx="3835440" cy="4800600"/>
          </a:xfrm>
          <a:prstGeom prst="rect">
            <a:avLst/>
          </a:prstGeom>
          <a:noFill/>
          <a:ln w="0">
            <a:noFill/>
          </a:ln>
        </p:spPr>
        <p:txBody>
          <a:bodyPr lIns="90000" rIns="90000" tIns="46800" bIns="46800" anchor="t">
            <a:normAutofit/>
          </a:bodyPr>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icity is a general term encompassing a variety of phenomena resulting from the presence and flow of electric charge.</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If electricity is the flow of charge then electronics would be the applications of that flow.</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onics is the science and technology concerned with the understanding of electronic devices, circuits, and components.  </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To perform Quantitative analysis of circuits one needs to understand electricity and electronics.</a:t>
            </a:r>
            <a:endParaRPr b="0" lang="en-US" sz="16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lnSpc>
                <a:spcPct val="8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355" name="Picture 8" descr="http://www.picturesof.net/_images_300/A_Colorful_Cartoon_Professor_Confused_About_and_Electrical_Cord_Royalty_Free_Clipart_Picture_100521-012000-541053.jpg"/>
          <p:cNvPicPr/>
          <p:nvPr/>
        </p:nvPicPr>
        <p:blipFill>
          <a:blip r:embed="rId1"/>
          <a:stretch/>
        </p:blipFill>
        <p:spPr>
          <a:xfrm>
            <a:off x="5270400" y="2228760"/>
            <a:ext cx="2857680" cy="24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LESSON SEQUENCE</a:t>
            </a:r>
            <a:endParaRPr b="0" lang="en-US" sz="3000" spc="-1" strike="noStrike">
              <a:solidFill>
                <a:srgbClr val="575f6d"/>
              </a:solidFill>
              <a:latin typeface="Century Schoolbook"/>
            </a:endParaRPr>
          </a:p>
        </p:txBody>
      </p:sp>
      <p:sp>
        <p:nvSpPr>
          <p:cNvPr id="357" name=""/>
          <p:cNvSpPr txBox="1"/>
          <p:nvPr/>
        </p:nvSpPr>
        <p:spPr>
          <a:xfrm>
            <a:off x="1174680" y="1636560"/>
            <a:ext cx="7183440" cy="49644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1: Introduction to Electricity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Define electricity, electrical components, Ohm’s Law, breadboard</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2: Conversions and Resistance</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Conversion units in Electronics, Digital Multi-meter, Resistor Colour Code chart, breadboard design and measuremen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3: Parallel and Serial Circuits</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Series and Parallel circuit equations, breadboard circuit planning, design, and layout,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4: Kirchoff’s Voltage Law</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Kirchoff’s Current Law and Kirchhoff's Voltage Law,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5: Summary Of Concepts</a:t>
            </a:r>
            <a:r>
              <a:rPr b="0" lang="en-CA" sz="1900" spc="-1" strike="noStrike">
                <a:solidFill>
                  <a:srgbClr val="000000"/>
                </a:solidFill>
                <a:latin typeface="Century Schoolbook"/>
              </a:rPr>
              <a:t>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Review of lessons 1 to 4, Jigsaw Group exercise, Review Test forma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6: Electrical Circuits Test</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entury Schoolbook"/>
              </a:rPr>
              <a:t> </a:t>
            </a:r>
            <a:r>
              <a:rPr b="0" lang="en-CA" sz="1500" spc="-1" strike="noStrike">
                <a:solidFill>
                  <a:srgbClr val="000000"/>
                </a:solidFill>
                <a:latin typeface="Century Schoolbook"/>
              </a:rPr>
              <a:t>Summative Assessment tes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8640" y="282600"/>
            <a:ext cx="74070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CURRICULUM EXPECTATIONS</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1431720" y="1267920"/>
            <a:ext cx="5203800" cy="4932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1 use appropriate terminology related to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electricity and magnetism, including, but not limited to: </a:t>
            </a:r>
            <a:r>
              <a:rPr b="1" i="1" lang="en-US" sz="1700" spc="-1" strike="noStrike">
                <a:solidFill>
                  <a:srgbClr val="575f6d"/>
                </a:solidFill>
                <a:latin typeface="Century Schoolbook"/>
              </a:rPr>
              <a:t>direct current, alternating current, electrical potential difference, resistance, power, energy, permanent magnet, electromagnet, magnetic field, motor principle, </a:t>
            </a:r>
            <a:r>
              <a:rPr b="1" lang="en-US" sz="1700" spc="-1" strike="noStrike">
                <a:solidFill>
                  <a:srgbClr val="575f6d"/>
                </a:solidFill>
                <a:latin typeface="Century Schoolbook"/>
              </a:rPr>
              <a:t>and </a:t>
            </a:r>
            <a:r>
              <a:rPr b="1" i="1" lang="en-US" sz="1700" spc="-1" strike="noStrike">
                <a:solidFill>
                  <a:srgbClr val="575f6d"/>
                </a:solidFill>
                <a:latin typeface="Century Schoolbook"/>
              </a:rPr>
              <a:t>electric motor.</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2 construct real and simulated mixed direct current (DC) circuits (i.e., parallel, series, and mixed circuits), and analyse them in quantitative terms to test Kirchhoff’s laws.</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r>
              <a:rPr b="1" lang="en-US" sz="1700" spc="-1" strike="noStrike">
                <a:solidFill>
                  <a:srgbClr val="575f6d"/>
                </a:solidFill>
                <a:latin typeface="Century Schoolbook"/>
              </a:rPr>
              <a:t>D2.3 analyse, in quantitative terms, real or simulated DC circuits and circuit diagrams, using Ohm’s law and Kirchhoff’s laws.</a:t>
            </a:r>
            <a:endParaRPr b="0" lang="en-US" sz="1700" spc="-1" strike="noStrike">
              <a:solidFill>
                <a:srgbClr val="000000"/>
              </a:solidFill>
              <a:latin typeface="Century Schoolbook"/>
            </a:endParaRPr>
          </a:p>
        </p:txBody>
      </p:sp>
      <p:pic>
        <p:nvPicPr>
          <p:cNvPr id="360"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OHMS LAW</a:t>
            </a:r>
            <a:endParaRPr b="0" lang="en-US" sz="3900" spc="-1" strike="noStrike">
              <a:solidFill>
                <a:srgbClr val="575f6d"/>
              </a:solidFill>
              <a:latin typeface="Century Schoolbook"/>
            </a:endParaRPr>
          </a:p>
        </p:txBody>
      </p:sp>
      <p:sp>
        <p:nvSpPr>
          <p:cNvPr id="362" name=""/>
          <p:cNvSpPr txBox="1"/>
          <p:nvPr/>
        </p:nvSpPr>
        <p:spPr>
          <a:xfrm>
            <a:off x="456840" y="1599840"/>
            <a:ext cx="7467480" cy="10256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1"/>
              </a:rPr>
              <a:t>Video demonstration of Ohms La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3" name="Picture 5" descr=""/>
          <p:cNvPicPr/>
          <p:nvPr/>
        </p:nvPicPr>
        <p:blipFill>
          <a:blip r:embed="rId2"/>
          <a:stretch/>
        </p:blipFill>
        <p:spPr>
          <a:xfrm>
            <a:off x="1523880" y="2625840"/>
            <a:ext cx="6096240" cy="33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RESISTOR COLOUR CODE CHART</a:t>
            </a:r>
            <a:endParaRPr b="0" lang="en-US" sz="39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sitance conversions</a:t>
            </a:r>
            <a:endParaRPr b="0" lang="en-US" sz="24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udents use an inquiry-based approach to determine that resistance values of physical resistors and its units.</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6" name="Picture 4" descr="Resistor Colour Code Chart.gif"/>
          <p:cNvPicPr/>
          <p:nvPr/>
        </p:nvPicPr>
        <p:blipFill>
          <a:blip r:embed="rId1"/>
          <a:stretch/>
        </p:blipFill>
        <p:spPr>
          <a:xfrm>
            <a:off x="2133720" y="2827440"/>
            <a:ext cx="4768560" cy="403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PARALLEL AND SERIAL CIRCUIT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68" name=""/>
          <p:cNvSpPr txBox="1"/>
          <p:nvPr/>
        </p:nvSpPr>
        <p:spPr>
          <a:xfrm>
            <a:off x="1434960" y="1447920"/>
            <a:ext cx="7499520" cy="4332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Series and Parallel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Series Circuit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Parallel Circuits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ircuits Demonstration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breadboard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to measure parallel and serial circuit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69" name="Picture 8" descr="http://openbookproject.net/electricCircuits/DC/00084.png"/>
          <p:cNvPicPr/>
          <p:nvPr/>
        </p:nvPicPr>
        <p:blipFill>
          <a:blip r:embed="rId1"/>
          <a:stretch/>
        </p:blipFill>
        <p:spPr>
          <a:xfrm>
            <a:off x="5641920" y="2082960"/>
            <a:ext cx="2552760" cy="209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THE QUCS SIMULATOR</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1" name=""/>
          <p:cNvSpPr txBox="1"/>
          <p:nvPr/>
        </p:nvSpPr>
        <p:spPr>
          <a:xfrm>
            <a:off x="457200" y="1711080"/>
            <a:ext cx="3710160" cy="464796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CS Circuit Simulator</a:t>
            </a:r>
            <a:endParaRPr b="0" lang="en-US" sz="24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tudents today are technology natives. They enjoy working with technology. </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Teacher demonstrates to build a QUCS circuit, and how to run a simulation for  measurement, analysis, resultant graphs and  tables.</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simulator will be used for Parallel and Serial Circuits and Kirchoff Voltage laws.</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2" name="Picture 6" descr="example qucs schematic"/>
          <p:cNvPicPr/>
          <p:nvPr/>
        </p:nvPicPr>
        <p:blipFill>
          <a:blip r:embed="rId1"/>
          <a:stretch/>
        </p:blipFill>
        <p:spPr>
          <a:xfrm>
            <a:off x="4519440" y="1960560"/>
            <a:ext cx="4415040" cy="332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KIRCHOFF VOLTAGE LAW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4" name=""/>
          <p:cNvSpPr txBox="1"/>
          <p:nvPr/>
        </p:nvSpPr>
        <p:spPr>
          <a:xfrm>
            <a:off x="1095120" y="1641240"/>
            <a:ext cx="4206600" cy="47941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First Law – Conservation of Curren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ideo on Kirchoff’s law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econd Law – Conservation of Voltage at Node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Interactive demonstration on smartboard.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olve Kirchoff’s circuit problem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75" name="Picture 2" descr="http://t1.gstatic.com/images?q=tbn:ANd9GcTsdWqxrrtr-0HVH487_wcz1yVZbAsnf5zBM9n8-RldThOYzTTWg9gjzuJk"/>
          <p:cNvPicPr/>
          <p:nvPr/>
        </p:nvPicPr>
        <p:blipFill>
          <a:blip r:embed="rId1"/>
          <a:stretch/>
        </p:blipFill>
        <p:spPr>
          <a:xfrm>
            <a:off x="5641920" y="2744640"/>
            <a:ext cx="27720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Robert</cp:lastModifiedBy>
  <dcterms:modified xsi:type="dcterms:W3CDTF">2012-07-17T23:40:32Z</dcterms:modified>
  <cp:revision>70</cp:revision>
  <dc:subject/>
  <dc:title>Teaching the Concept of Protein Synthesis Rebecca Lostracco Jacqueline McCann</dc:title>
</cp:coreProperties>
</file>