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297D1-D872-44FC-A085-014607850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DC2F0-369E-4262-996D-2C0BD4926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E04D9-9262-4D55-A7DF-7A710181A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58CC7-E58F-48C4-85C7-FE10B0BD0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BD8A9-9CB0-4365-B3B5-C5C6A300B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04CE1-2330-43C4-B3A2-C54E7B274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D06F7-6C15-47D5-BCC2-3785C1E6C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63496-E291-446A-9774-66FD6CBE4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6E861-7FB4-4B61-BD69-4B99080BE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8275A-D7F5-4F3B-BD86-D3B5C5746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CD74-2DC7-4C85-A04A-CDADF0A88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421C5-5318-40E6-973E-03F04D49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6E4A6-4BEC-4676-A337-2E5AB7D52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2298D-0AA1-468F-8D6E-49C8C90ED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C7EF9-CB6A-4524-A8CA-266204C53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F81AA-E65F-493D-B6F5-97CA5AFF7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66444-F10E-4B20-A124-1A859B6B4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C66869B-A4E6-4BEE-9476-B219469D4D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4CA1A6-9E90-4E5B-B4F2-D0D796304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B1277A9-DC81-42BE-959A-807BE464D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CD9283-E61A-4EE9-B205-B393BB7F1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E994BF-BC31-47A2-8146-13EA2D2D2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7A0D9-5EE1-4CA3-AD2B-7BE138B4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91690C-2E3F-46A3-93A3-110B227C2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B5F7F8-37DE-4DB3-B006-E8FB310F1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23676F-9C20-4F9B-8EDD-C523BCC9C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9F3669-F4DB-4233-BAD0-3292138CF1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E965CA-97CA-4D7B-813A-E4212A212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26C972-F23F-4B6E-AE7B-39DD7F45AB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F422265-93E8-4BA7-9DA0-9C9F6E7C4F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BB969E-AF1A-4FAA-B32E-E08189F60E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0E644-4B07-45C1-85EF-C65DF4DEB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692156-B20F-4557-B4D4-5B2DEF464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3AABE-4C3A-4D45-A78D-D0B7DC43F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D886A-905D-48D0-A9CD-AA936FC65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FCD2C0-9559-4D73-AA80-494A7B3A29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56FAC-B5DC-4BEB-8EFF-CDB8F837D7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1ADC4-D4B4-4800-84AE-87CEA55A9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97219-DB1C-44AE-8BAB-D09CD0414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55E94-8A3E-4E8C-AA04-AD4DB1EB7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6AC72-177F-4E1B-A231-D3CA7969B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5A3B8-4724-4B4C-8E7A-DE5FA6450F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C6C8A-B55C-4FAE-BFB5-3754A5C5A8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90D54F4-ACE9-4571-B9A0-641D3268CF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A0CC-1BA5-42DC-9D09-7A3DD9F3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0EBBC9-E1B2-49AD-B248-75E41452D3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E5875C-53AA-458A-94B5-F17CAB740D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FAFEA31-C4E3-488E-B426-5589F7BFB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BF6505-E123-4A6F-86DD-7290FE6653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04F5A83-77CC-4915-8525-34CE3568D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3BEC33-96E4-4C9E-A0C5-344B59827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11C5FC-8534-48E5-9DD2-05117E843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02D8B91-EF2C-4C45-93E4-9CF0D5BB1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20D3B5-5BAC-4CEB-9023-6EF71E3A1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6ED5032-85A9-4C06-B98A-CD6381CB65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6DAF3-2D53-451E-B2BD-2CCBAE7B8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D55615A-02B5-4683-9785-D05CDD7F74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206CEB6-336C-4392-BC18-6CFA32DE21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D2C8458-A9EB-4F34-8771-F597286E20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CD78B9-62F7-47C2-B61A-06C8390D01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8F67278-513E-45CF-8146-4E3368CDB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723ADB3-8481-4D9D-9347-5C871385E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E759A33-7E88-4E1B-9303-4C75C200CA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A427B3-4DB9-45EC-AAD1-D983E8EDB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3647A6-5ED3-4FF3-BFDA-4A543C431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C5C9900-5BFA-41E6-A05F-790D6B4D7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DCA8-23B0-4907-8A6A-A53A17B0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C44E885-A959-443A-82B5-83359CDD83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C35E19F-264B-4AFA-9126-2B2B54CC0E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F3E81FE-0049-4451-B88E-CEE451FC6C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C54150-FD71-4748-A648-4E6D223E73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5C5A475-43C8-4C93-B6C8-443B465B4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147477-A67B-434A-8C25-75859FA082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5C6CF0-FD36-4AAA-A40A-FC60B9110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C73225B-CA7A-4AA9-8FD5-6E2A350A1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4F725D2-323C-4139-B521-D44AEF3DF1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4410D8-DAAB-470F-90A6-6A72AA969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64BD0-C7EB-45D4-81E4-CD6ACC7C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26042D4-619E-4823-ABE3-F4B050CA4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B2E0A4-2E94-4A92-869E-1BABDCAC0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65EBDA4-13C7-4860-845F-4DF6C93A9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861A3A2-4319-46AC-AFE5-82AE2B9AE7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79AE180-9CD5-4654-A1C1-808D4B24B0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995B-9581-4DA8-AD56-77DDD146E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85895-7EFF-4AAA-830E-83907D3D460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E5E94-936E-4977-9E98-A3F12648B00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12233-9752-4D99-A54D-2BAC9C4228AB}"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BB2EA-E2AC-4B14-95C2-11B9E1D714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0720D-AEA6-4374-A61A-A570C82A141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75922-2415-494C-869C-06B00FF023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FF2F4-0A65-4E4C-9BF9-DF1E03B5711A}"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70C41-35C0-479A-91BA-2D3E78F513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39088-95A7-40AB-8022-E392719F3CCF}"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0E5BD7-11D7-4701-BE10-F95EF3FC2D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9C4B2-8FE8-467F-97CE-4BEC996BCE3F}"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E654A-09C6-487B-87FD-DA1EEDE68BB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BE206-7178-45BF-9202-5AC4591C39D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D2D17-E1ED-4DA1-BA28-65A092AFE4C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AS13fl30" TargetMode="External"/><Relationship Id="rId2" Type="http://schemas.openxmlformats.org/officeDocument/2006/relationships/hyperlink" Target="http://www.youtube.com/watch?v=5D2cLj28Pc8"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mHLvtGjum4" TargetMode="External"/><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1720" y="1095480"/>
            <a:ext cx="7407000" cy="147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EACHING THE QUANTITATIVE ANALYSIS OF CIRUITS</a:t>
            </a:r>
            <a:br>
              <a:rPr sz="3600"/>
            </a:br>
            <a:br>
              <a:rPr sz="3600"/>
            </a:br>
            <a:r>
              <a:rPr b="1" lang="en-US" sz="1800" spc="-1" strike="noStrike">
                <a:solidFill>
                  <a:srgbClr val="575f6d"/>
                </a:solidFill>
                <a:latin typeface="Century Schoolbook"/>
              </a:rPr>
              <a:t>ROBERT SHAW</a:t>
            </a:r>
            <a:br>
              <a:rPr sz="1800"/>
            </a:br>
            <a:r>
              <a:rPr b="1" lang="en-US" sz="1800" spc="-1" strike="noStrike">
                <a:solidFill>
                  <a:srgbClr val="575f6d"/>
                </a:solidFill>
                <a:latin typeface="Century Schoolbook"/>
              </a:rPr>
              <a:t>VERNY THURAIRAJAH</a:t>
            </a:r>
            <a:endParaRPr b="0" lang="en-US" sz="1800" spc="-1" strike="noStrike">
              <a:solidFill>
                <a:srgbClr val="575f6d"/>
              </a:solidFill>
              <a:latin typeface="Century Schoolbook"/>
            </a:endParaRPr>
          </a:p>
        </p:txBody>
      </p:sp>
      <p:pic>
        <p:nvPicPr>
          <p:cNvPr id="352" name="Picture 3" descr="Kirchoff_cct_diagram.gif"/>
          <p:cNvPicPr/>
          <p:nvPr/>
        </p:nvPicPr>
        <p:blipFill>
          <a:blip r:embed="rId1"/>
          <a:stretch/>
        </p:blipFill>
        <p:spPr>
          <a:xfrm>
            <a:off x="2943360" y="2989440"/>
            <a:ext cx="3809880" cy="32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1720" y="220320"/>
            <a:ext cx="740700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POTENTIAL STUDENT DIFFICULTIES</a:t>
            </a:r>
            <a:endParaRPr b="0" lang="en-US" sz="3000" spc="-1" strike="noStrike">
              <a:solidFill>
                <a:srgbClr val="575f6d"/>
              </a:solidFill>
              <a:latin typeface="Century Schoolbook"/>
            </a:endParaRPr>
          </a:p>
        </p:txBody>
      </p:sp>
      <p:sp>
        <p:nvSpPr>
          <p:cNvPr id="377" name="PlaceHolder 2"/>
          <p:cNvSpPr>
            <a:spLocks noGrp="1"/>
          </p:cNvSpPr>
          <p:nvPr>
            <p:ph type="subTitle"/>
          </p:nvPr>
        </p:nvSpPr>
        <p:spPr>
          <a:xfrm>
            <a:off x="1431720" y="1535040"/>
            <a:ext cx="6724440" cy="4314960"/>
          </a:xfrm>
          <a:prstGeom prst="rect">
            <a:avLst/>
          </a:prstGeom>
          <a:noFill/>
          <a:ln w="0">
            <a:noFill/>
          </a:ln>
        </p:spPr>
        <p:txBody>
          <a:bodyPr lIns="90000" rIns="90000" tIns="46800" bIns="46800" anchor="t">
            <a:noAutofit/>
          </a:bodyPr>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Abstract concepts of voltage, current, and power – may be hard for students to differentiate with clarit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Units of measurement are varied from Tera to nano.  Conversions are needed frequently.</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Terminology is dense.  Embracing many concepts Polarity, DC/AC,   resistance and capacitance.</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electron flow (negative to positive), and a a purely figurative positive unit of charge flow (positive to negative). </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istinguishing between parallel and serial circuits.  When a circuit loop has few components its easy to get confused.</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For complex circuits it can be challenging to find the nodes and the current loops.  Both are needed to apply Kirchoff’s voltage laws.</a:t>
            </a:r>
            <a:endParaRPr b="0" lang="en-US" sz="1700" spc="-1" strike="noStrike">
              <a:solidFill>
                <a:srgbClr val="000000"/>
              </a:solidFill>
              <a:latin typeface="Century Schoolbook"/>
            </a:endParaRPr>
          </a:p>
          <a:p>
            <a:pPr marL="27000">
              <a:lnSpc>
                <a:spcPct val="8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Breadboard work is not as simple and quick as simulator, and it requires dexterity, planning, and debug skills.</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388880" y="280800"/>
            <a:ext cx="740556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OLUTIONS TO STUDENT DIFFICULTIES</a:t>
            </a:r>
            <a:endParaRPr b="0" lang="en-US" sz="3000" spc="-1" strike="noStrike">
              <a:solidFill>
                <a:srgbClr val="575f6d"/>
              </a:solidFill>
              <a:latin typeface="Century Schoolbook"/>
            </a:endParaRPr>
          </a:p>
        </p:txBody>
      </p:sp>
      <p:sp>
        <p:nvSpPr>
          <p:cNvPr id="379" name="PlaceHolder 2"/>
          <p:cNvSpPr>
            <a:spLocks noGrp="1"/>
          </p:cNvSpPr>
          <p:nvPr>
            <p:ph type="subTitle"/>
          </p:nvPr>
        </p:nvSpPr>
        <p:spPr>
          <a:xfrm>
            <a:off x="1388880" y="1168560"/>
            <a:ext cx="7405560" cy="5217840"/>
          </a:xfrm>
          <a:prstGeom prst="rect">
            <a:avLst/>
          </a:prstGeom>
          <a:noFill/>
          <a:ln w="0">
            <a:noFill/>
          </a:ln>
        </p:spPr>
        <p:txBody>
          <a:bodyPr lIns="90000" rIns="90000" tIns="46800" bIns="46800" anchor="t">
            <a:noAutofit/>
          </a:bodyPr>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Interactive videos and power points cover the abstract concepts, this will be online for reference and self paced learning.</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onversion of units can be done with teams and groups on flipcharts and on the board in class summary and recaps.</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uring jigsaw group activity system experts can collaboratively teach the denser concept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Create diagrams of individual components to illustrate the physics and flow of electronics.   Only use flow of positive charge on circuits.  The seperation of component versus circuit helps students to grasp the different polarity flows.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Have students work in groups with circuits in a pictionary style activity to differentiate between parallel and serial circuits, nodes and current loops.  Students thrive on gaming. </a:t>
            </a:r>
            <a:endParaRPr b="0" lang="en-US" sz="1700" spc="-1" strike="noStrike">
              <a:solidFill>
                <a:srgbClr val="000000"/>
              </a:solidFill>
              <a:latin typeface="Century Schoolbook"/>
            </a:endParaRPr>
          </a:p>
          <a:p>
            <a:pPr marL="27000">
              <a:lnSpc>
                <a:spcPct val="9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320e04"/>
                </a:solidFill>
                <a:latin typeface="Century Schoolbook"/>
              </a:rPr>
              <a:t> </a:t>
            </a:r>
            <a:r>
              <a:rPr b="1" lang="en-CA" sz="1700" spc="-1" strike="noStrike">
                <a:solidFill>
                  <a:srgbClr val="320e04"/>
                </a:solidFill>
                <a:latin typeface="Century Schoolbook"/>
              </a:rPr>
              <a:t>Demonstrate good breadboard planning, design, and wiring.  The biggest problems are with unplanned disorganized circuits.  Collect and diagnostically evaluate each groups performance.</a:t>
            </a:r>
            <a:endParaRPr b="0" lang="en-US" sz="17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264600"/>
            <a:ext cx="7407000" cy="91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SAFETY CONSIDERATIONS</a:t>
            </a:r>
            <a:endParaRPr b="0" lang="en-US" sz="3000" spc="-1" strike="noStrike">
              <a:solidFill>
                <a:srgbClr val="575f6d"/>
              </a:solidFill>
              <a:latin typeface="Century Schoolbook"/>
            </a:endParaRPr>
          </a:p>
        </p:txBody>
      </p:sp>
      <p:sp>
        <p:nvSpPr>
          <p:cNvPr id="381" name="PlaceHolder 2"/>
          <p:cNvSpPr>
            <a:spLocks noGrp="1"/>
          </p:cNvSpPr>
          <p:nvPr>
            <p:ph type="subTitle"/>
          </p:nvPr>
        </p:nvSpPr>
        <p:spPr>
          <a:xfrm>
            <a:off x="1031400" y="1385640"/>
            <a:ext cx="4102200" cy="3995640"/>
          </a:xfrm>
          <a:prstGeom prst="rect">
            <a:avLst/>
          </a:prstGeom>
          <a:noFill/>
          <a:ln w="0">
            <a:noFill/>
          </a:ln>
        </p:spPr>
        <p:txBody>
          <a:bodyPr lIns="90000" rIns="90000" tIns="46800" bIns="46800" anchor="t">
            <a:noAutofit/>
          </a:bodyPr>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A DC circuit lab concern is short circuits overheating. Checking voltages, and a sense of smell avoids this.</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utting of wire needs to be done pulling outwards from the body.</a:t>
            </a:r>
            <a:endParaRPr b="0" lang="en-US" sz="1800" spc="-1" strike="noStrike">
              <a:solidFill>
                <a:srgbClr val="000000"/>
              </a:solidFill>
              <a:latin typeface="Century Schoolbook"/>
            </a:endParaRPr>
          </a:p>
          <a:p>
            <a:pPr marL="27000">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320e04"/>
                </a:solidFill>
                <a:latin typeface="Century Schoolbook"/>
              </a:rPr>
              <a:t>Clean up to prevent tripping hazards.</a:t>
            </a:r>
            <a:endParaRPr b="0" lang="en-US" sz="1800" spc="-1" strike="noStrike">
              <a:solidFill>
                <a:srgbClr val="000000"/>
              </a:solidFill>
              <a:latin typeface="Century Schoolbook"/>
            </a:endParaRPr>
          </a:p>
        </p:txBody>
      </p:sp>
      <p:pic>
        <p:nvPicPr>
          <p:cNvPr id="382" name="Picture 6" descr="http://www.outbackmarine.com.au/public/upload/media/ElectricalCartoon.gif"/>
          <p:cNvPicPr/>
          <p:nvPr/>
        </p:nvPicPr>
        <p:blipFill>
          <a:blip r:embed="rId1"/>
          <a:stretch/>
        </p:blipFill>
        <p:spPr>
          <a:xfrm>
            <a:off x="5462640" y="1968480"/>
            <a:ext cx="3535200" cy="38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itle 1"/>
          <p:cNvSpPr/>
          <p:nvPr/>
        </p:nvSpPr>
        <p:spPr>
          <a:xfrm>
            <a:off x="1434960" y="0"/>
            <a:ext cx="74995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entury Schoolbook"/>
              </a:rPr>
              <a:t>Practical Applications</a:t>
            </a:r>
            <a:endParaRPr b="0" lang="en-US" sz="4200" spc="-1" strike="noStrike">
              <a:solidFill>
                <a:srgbClr val="000000"/>
              </a:solidFill>
              <a:latin typeface="Arial"/>
            </a:endParaRPr>
          </a:p>
        </p:txBody>
      </p:sp>
      <p:sp>
        <p:nvSpPr>
          <p:cNvPr id="384" name="Subtitle 2"/>
          <p:cNvSpPr/>
          <p:nvPr/>
        </p:nvSpPr>
        <p:spPr>
          <a:xfrm>
            <a:off x="1432080" y="1143000"/>
            <a:ext cx="4300560" cy="209088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The Flasher Circuit </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A multi loop circuit, that varies flashing with resistance, used with Kirchoff’s laws.</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1"/>
              </a:rPr>
              <a:t>Tesla Coil</a:t>
            </a:r>
            <a:endParaRPr b="0" lang="en-US" sz="2600" spc="-1" strike="noStrike">
              <a:solidFill>
                <a:srgbClr val="000000"/>
              </a:solidFill>
              <a:latin typeface="Arial"/>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A cool voltage device that creates lightning strikes, used in fundamentals of electricity.</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u="sng">
                <a:solidFill>
                  <a:srgbClr val="d2611c"/>
                </a:solidFill>
                <a:uFillTx/>
                <a:latin typeface="Gill Sans MT"/>
                <a:hlinkClick r:id="rId2"/>
              </a:rPr>
              <a:t>Capacitor Charge Dissipation</a:t>
            </a:r>
            <a:endParaRPr b="0" lang="en-US" sz="26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20e04"/>
                </a:solidFill>
                <a:latin typeface="Gill Sans MT"/>
              </a:rPr>
              <a:t> </a:t>
            </a:r>
            <a:r>
              <a:rPr b="0" lang="en-CA" sz="2600" spc="-1" strike="noStrike">
                <a:solidFill>
                  <a:srgbClr val="320e04"/>
                </a:solidFill>
                <a:latin typeface="Gill Sans MT"/>
              </a:rPr>
              <a:t>discuss the rate of charge dissipation for electric plates.</a:t>
            </a:r>
            <a:endParaRPr b="0" lang="en-US" sz="2600" spc="-1" strike="noStrike">
              <a:solidFill>
                <a:srgbClr val="000000"/>
              </a:solidFill>
              <a:latin typeface="Arial"/>
            </a:endParaRPr>
          </a:p>
        </p:txBody>
      </p:sp>
      <p:pic>
        <p:nvPicPr>
          <p:cNvPr id="385" name="Picture 7" descr="http://schtee.net/openMUTT/blog/wp-content/uploads/2008/03/flasher_circuit.jpg"/>
          <p:cNvPicPr/>
          <p:nvPr/>
        </p:nvPicPr>
        <p:blipFill>
          <a:blip r:embed="rId3"/>
          <a:stretch/>
        </p:blipFill>
        <p:spPr>
          <a:xfrm>
            <a:off x="6100920" y="1143000"/>
            <a:ext cx="2738160" cy="1746360"/>
          </a:xfrm>
          <a:prstGeom prst="rect">
            <a:avLst/>
          </a:prstGeom>
          <a:ln w="0">
            <a:noFill/>
          </a:ln>
        </p:spPr>
      </p:pic>
      <p:pic>
        <p:nvPicPr>
          <p:cNvPr id="386" name="Picture 11" descr="http://rajapakse.info/tesla-coil.jpg"/>
          <p:cNvPicPr/>
          <p:nvPr/>
        </p:nvPicPr>
        <p:blipFill>
          <a:blip r:embed="rId4"/>
          <a:stretch/>
        </p:blipFill>
        <p:spPr>
          <a:xfrm>
            <a:off x="6100920" y="3611520"/>
            <a:ext cx="2833560" cy="29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1720" y="145800"/>
            <a:ext cx="7407000" cy="84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DIFFERENTIATED ASSESSMENT</a:t>
            </a:r>
            <a:endParaRPr b="0" lang="en-US" sz="3000" spc="-1" strike="noStrike">
              <a:solidFill>
                <a:srgbClr val="575f6d"/>
              </a:solidFill>
              <a:latin typeface="Century Schoolbook"/>
            </a:endParaRPr>
          </a:p>
        </p:txBody>
      </p:sp>
      <p:sp>
        <p:nvSpPr>
          <p:cNvPr id="388" name="Subtitle 2"/>
          <p:cNvSpPr/>
          <p:nvPr/>
        </p:nvSpPr>
        <p:spPr>
          <a:xfrm>
            <a:off x="847800" y="1192320"/>
            <a:ext cx="7991280" cy="54561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would have been assessed in the labs in a number of applied means:</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drawing parallel, serial circuits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using components and a breadboard (Kinesthe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A set of labs building circuits, adding tools, running simulations, generating graphs, data tables (Virtual,  Analytical,  Visu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Video about the Ohms Law, and Kirchoff’s Law’s (Linguistic)</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Group work conducting jigsaw expert training (Intra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Lessons on terminology,  laws,  charts and conversions taught to the class (Interpersonal)</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  </a:t>
            </a:r>
            <a:r>
              <a:rPr b="0" lang="en-CA" sz="1800" spc="-1" strike="noStrike">
                <a:solidFill>
                  <a:srgbClr val="320e04"/>
                </a:solidFill>
                <a:latin typeface="Gill Sans MT"/>
                <a:ea typeface="ＭＳ Ｐゴシック"/>
              </a:rPr>
              <a:t>Demonstration of the DMM and measurements made on the bread boards.  Demonstration of simulator tool. (Visual, Kinesthetic)  </a:t>
            </a:r>
            <a:endParaRPr b="0" lang="en-US" sz="1800" spc="-1" strike="noStrike">
              <a:solidFill>
                <a:srgbClr val="000000"/>
              </a:solidFill>
              <a:latin typeface="Arial"/>
            </a:endParaRPr>
          </a:p>
          <a:p>
            <a:pPr lvl="1" marL="484200">
              <a:lnSpc>
                <a:spcPct val="100000"/>
              </a:lnSpc>
              <a:spcBef>
                <a:spcPts val="601"/>
              </a:spcBef>
              <a:buClr>
                <a:srgbClr val="fe863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ea typeface="ＭＳ Ｐゴシック"/>
              </a:rPr>
              <a:t>Exemplar of circuit planning,  design, layout, and wiring techniques. (Visual)</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Gill Sans MT"/>
              </a:rPr>
              <a:t>Students’ understanding of the concepts evaluated on unit test, exercises, and lab questions (Logic)</a:t>
            </a:r>
            <a:endParaRPr b="0" lang="en-US" sz="1800" spc="-1" strike="noStrike">
              <a:solidFill>
                <a:srgbClr val="000000"/>
              </a:solidFill>
              <a:latin typeface="Arial"/>
            </a:endParaRPr>
          </a:p>
          <a:p>
            <a:pPr marL="27000">
              <a:lnSpc>
                <a:spcPct val="100000"/>
              </a:lnSpc>
              <a:spcBef>
                <a:spcPts val="601"/>
              </a:spcBef>
              <a:buClr>
                <a:srgbClr val="fe863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Formative assessment based on lab work and unit test. (Summative/Form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INTRODUCTION TO ELECTRICITY AND ELECTRONIC CIRCUITS</a:t>
            </a:r>
            <a:endParaRPr b="0" lang="en-US" sz="3500" spc="-1" strike="noStrike">
              <a:solidFill>
                <a:srgbClr val="575f6d"/>
              </a:solidFill>
              <a:latin typeface="Century Schoolbook"/>
            </a:endParaRPr>
          </a:p>
        </p:txBody>
      </p:sp>
      <p:sp>
        <p:nvSpPr>
          <p:cNvPr id="354" name=""/>
          <p:cNvSpPr txBox="1"/>
          <p:nvPr/>
        </p:nvSpPr>
        <p:spPr>
          <a:xfrm>
            <a:off x="1434960" y="1447560"/>
            <a:ext cx="3835440" cy="4800600"/>
          </a:xfrm>
          <a:prstGeom prst="rect">
            <a:avLst/>
          </a:prstGeom>
          <a:noFill/>
          <a:ln w="0">
            <a:noFill/>
          </a:ln>
        </p:spPr>
        <p:txBody>
          <a:bodyPr lIns="90000" rIns="90000" tIns="46800" bIns="46800" anchor="t">
            <a:normAutofit/>
          </a:bodyPr>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icity is a general term encompassing a variety of phenomena resulting from the presence and flow of electric charge.</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If electricity is the flow of charge then electronics would be the applications of that flow.</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Electronics is the science and technology concerned with the understanding of electronic devices, circuits, and components.  </a:t>
            </a: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i="1" lang="en-US" sz="1600" spc="-1" strike="noStrike">
                <a:solidFill>
                  <a:srgbClr val="000000"/>
                </a:solidFill>
                <a:latin typeface="Arial"/>
              </a:rPr>
              <a:t>To perform Quantitative analysis of circuits one needs to understand electricity and electronics.</a:t>
            </a:r>
            <a:endParaRPr b="0" lang="en-US" sz="16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a:p>
            <a:pPr>
              <a:lnSpc>
                <a:spcPct val="80000"/>
              </a:lnSpc>
              <a:spcBef>
                <a:spcPts val="601"/>
              </a:spcBef>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55" name="Picture 8" descr="http://www.picturesof.net/_images_300/A_Colorful_Cartoon_Professor_Confused_About_and_Electrical_Cord_Royalty_Free_Clipart_Picture_100521-012000-541053.jpg"/>
          <p:cNvPicPr/>
          <p:nvPr/>
        </p:nvPicPr>
        <p:blipFill>
          <a:blip r:embed="rId1"/>
          <a:stretch/>
        </p:blipFill>
        <p:spPr>
          <a:xfrm>
            <a:off x="5270400" y="2228760"/>
            <a:ext cx="2857680" cy="24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LESSON SEQUENCE</a:t>
            </a:r>
            <a:endParaRPr b="0" lang="en-US" sz="3000" spc="-1" strike="noStrike">
              <a:solidFill>
                <a:srgbClr val="575f6d"/>
              </a:solidFill>
              <a:latin typeface="Century Schoolbook"/>
            </a:endParaRPr>
          </a:p>
        </p:txBody>
      </p:sp>
      <p:sp>
        <p:nvSpPr>
          <p:cNvPr id="357" name=""/>
          <p:cNvSpPr txBox="1"/>
          <p:nvPr/>
        </p:nvSpPr>
        <p:spPr>
          <a:xfrm>
            <a:off x="1174680" y="1636560"/>
            <a:ext cx="7183440" cy="49644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1: Introduction to Electricity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Define electricity, electrical components, Ohm’s Law, breadboard</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2: Conversions and Resistance</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Conversion units in Electronics, Digital Multi-meter, Resistor Colour Code chart, breadboard design and measuremen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3: Parallel and Serial Circuits</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Series and Parallel circuit equations, breadboard circuit planning, design, and layout,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4: Kirchoff’s Voltage Law</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Kirchoff’s Current Law and Kirchhoff's Voltage Law, QUCs Simulator.</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5: Summary Of Concepts</a:t>
            </a:r>
            <a:r>
              <a:rPr b="0" lang="en-CA"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entury Schoolbook"/>
              </a:rPr>
              <a:t>Review of lessons 1 to 4, Jigsaw Group exercise, Review Test forma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0000"/>
                </a:solidFill>
                <a:latin typeface="Century Schoolbook"/>
              </a:rPr>
              <a:t>Lesson 6: Electrical Circuits Test</a:t>
            </a:r>
            <a:endParaRPr b="0" lang="en-US" sz="1900" spc="-1" strike="noStrike">
              <a:solidFill>
                <a:srgbClr val="000000"/>
              </a:solidFill>
              <a:latin typeface="Century Schoolbook"/>
            </a:endParaRPr>
          </a:p>
          <a:p>
            <a:pPr lvl="1" marL="639720" indent="-272880">
              <a:spcBef>
                <a:spcPts val="37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 </a:t>
            </a:r>
            <a:r>
              <a:rPr b="0" lang="en-CA" sz="1500" spc="-1" strike="noStrike">
                <a:solidFill>
                  <a:srgbClr val="000000"/>
                </a:solidFill>
                <a:latin typeface="Century Schoolbook"/>
              </a:rPr>
              <a:t>Summative Assessment test</a:t>
            </a:r>
            <a:endParaRPr b="0" lang="en-US" sz="15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8640" y="282600"/>
            <a:ext cx="740700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575f6d"/>
                </a:solidFill>
                <a:latin typeface="Century Schoolbook"/>
              </a:rPr>
              <a:t>CURRICULUM EXPECTATIONS</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1431720" y="1267920"/>
            <a:ext cx="5203800" cy="49323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1 use appropriate terminology related to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electricity and magnetism, including, but not limited to: </a:t>
            </a:r>
            <a:r>
              <a:rPr b="1" i="1" lang="en-US" sz="1700" spc="-1" strike="noStrike">
                <a:solidFill>
                  <a:srgbClr val="575f6d"/>
                </a:solidFill>
                <a:latin typeface="Century Schoolbook"/>
              </a:rPr>
              <a:t>direct current, alternating current, electrical potential difference, resistance, power, energy, permanent magnet, electromagnet, magnetic field, motor principle, </a:t>
            </a:r>
            <a:r>
              <a:rPr b="1" lang="en-US" sz="1700" spc="-1" strike="noStrike">
                <a:solidFill>
                  <a:srgbClr val="575f6d"/>
                </a:solidFill>
                <a:latin typeface="Century Schoolbook"/>
              </a:rPr>
              <a:t>and </a:t>
            </a:r>
            <a:r>
              <a:rPr b="1" i="1" lang="en-US" sz="1700" spc="-1" strike="noStrike">
                <a:solidFill>
                  <a:srgbClr val="575f6d"/>
                </a:solidFill>
                <a:latin typeface="Century Schoolbook"/>
              </a:rPr>
              <a:t>electric motor.</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D2.2 construct real and simulated mixed direct current (DC) circuits (i.e., parallel, series, and mixed circuits), and analyse them in quantitative terms to test Kirchhoff’s laws.</a:t>
            </a: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75f6d"/>
                </a:solidFill>
                <a:latin typeface="Century Schoolbook"/>
              </a:rPr>
              <a:t> </a:t>
            </a:r>
            <a:r>
              <a:rPr b="1" lang="en-US" sz="1700" spc="-1" strike="noStrike">
                <a:solidFill>
                  <a:srgbClr val="575f6d"/>
                </a:solidFill>
                <a:latin typeface="Century Schoolbook"/>
              </a:rPr>
              <a:t>D2.3 analyse, in quantitative terms, real or simulated DC circuits and circuit diagrams, using Ohm’s law and Kirchhoff’s laws.</a:t>
            </a:r>
            <a:endParaRPr b="0" lang="en-US" sz="1700" spc="-1" strike="noStrike">
              <a:solidFill>
                <a:srgbClr val="000000"/>
              </a:solidFill>
              <a:latin typeface="Century Schoolbook"/>
            </a:endParaRPr>
          </a:p>
        </p:txBody>
      </p:sp>
      <p:pic>
        <p:nvPicPr>
          <p:cNvPr id="360" name="Picture 3" descr=""/>
          <p:cNvPicPr/>
          <p:nvPr/>
        </p:nvPicPr>
        <p:blipFill>
          <a:blip r:embed="rId1"/>
          <a:stretch/>
        </p:blipFill>
        <p:spPr>
          <a:xfrm>
            <a:off x="6807240" y="1135080"/>
            <a:ext cx="2336760" cy="325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OHMS LAW</a:t>
            </a:r>
            <a:endParaRPr b="0" lang="en-US" sz="3900" spc="-1" strike="noStrike">
              <a:solidFill>
                <a:srgbClr val="575f6d"/>
              </a:solidFill>
              <a:latin typeface="Century Schoolbook"/>
            </a:endParaRPr>
          </a:p>
        </p:txBody>
      </p:sp>
      <p:sp>
        <p:nvSpPr>
          <p:cNvPr id="362" name=""/>
          <p:cNvSpPr txBox="1"/>
          <p:nvPr/>
        </p:nvSpPr>
        <p:spPr>
          <a:xfrm>
            <a:off x="456840" y="1599840"/>
            <a:ext cx="7467480" cy="10256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Video demonstration of Ohms La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5" descr=""/>
          <p:cNvPicPr/>
          <p:nvPr/>
        </p:nvPicPr>
        <p:blipFill>
          <a:blip r:embed="rId2"/>
          <a:stretch/>
        </p:blipFill>
        <p:spPr>
          <a:xfrm>
            <a:off x="1523880" y="2625840"/>
            <a:ext cx="609624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5f6d"/>
                </a:solidFill>
                <a:latin typeface="Century Schoolbook"/>
              </a:rPr>
              <a:t>RESISTOR COLOUR CODE CHART</a:t>
            </a:r>
            <a:endParaRPr b="0" lang="en-US" sz="39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itance conversions</a:t>
            </a:r>
            <a:endParaRPr b="0" lang="en-US" sz="24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ents use an inquiry-based approach to determine that resistance values of physical resistors and its units.</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6" name="Picture 4" descr="Resistor Colour Code Chart.gif"/>
          <p:cNvPicPr/>
          <p:nvPr/>
        </p:nvPicPr>
        <p:blipFill>
          <a:blip r:embed="rId1"/>
          <a:stretch/>
        </p:blipFill>
        <p:spPr>
          <a:xfrm>
            <a:off x="2133720" y="2827440"/>
            <a:ext cx="4768560" cy="40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PARALLEL AND SERIAL CIRCUIT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68" name=""/>
          <p:cNvSpPr txBox="1"/>
          <p:nvPr/>
        </p:nvSpPr>
        <p:spPr>
          <a:xfrm>
            <a:off x="1434960" y="1447920"/>
            <a:ext cx="7499520" cy="43322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Series and Parallel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Series Circuit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Parallel Circuits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Resis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apacitance equation</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oltage equation</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Circuits Demonstration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breadboard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to measure parallel and serial circuit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69" name="Picture 8" descr="http://openbookproject.net/electricCircuits/DC/00084.png"/>
          <p:cNvPicPr/>
          <p:nvPr/>
        </p:nvPicPr>
        <p:blipFill>
          <a:blip r:embed="rId1"/>
          <a:stretch/>
        </p:blipFill>
        <p:spPr>
          <a:xfrm>
            <a:off x="5641920" y="2082960"/>
            <a:ext cx="2552760" cy="209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THE QUCS SIMULATOR</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1" name=""/>
          <p:cNvSpPr txBox="1"/>
          <p:nvPr/>
        </p:nvSpPr>
        <p:spPr>
          <a:xfrm>
            <a:off x="457200" y="1711080"/>
            <a:ext cx="3710160" cy="464796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CS Circuit Simulator</a:t>
            </a:r>
            <a:endParaRPr b="0" lang="en-US" sz="24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udents today are technology natives. They enjoy working with technology. </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Teacher demonstrates to build a QUCS circuit, and how to run a simulation for  measurement, analysis, resultant graphs and  tables.</a:t>
            </a:r>
            <a:endParaRPr b="0" lang="en-US" sz="1800" spc="-1" strike="noStrike">
              <a:solidFill>
                <a:srgbClr val="000000"/>
              </a:solidFill>
              <a:latin typeface="Century Schoolbook"/>
            </a:endParaRPr>
          </a:p>
          <a:p>
            <a:pPr lvl="1" marL="639720" indent="-272880">
              <a:lnSpc>
                <a:spcPct val="90000"/>
              </a:lnSpc>
              <a:spcBef>
                <a:spcPts val="451"/>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 simulator will be used for Parallel and Serial Circuits and Kirchoff Voltage laws.</a:t>
            </a:r>
            <a:endParaRPr b="0" lang="en-US" sz="1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2" name="Picture 6" descr="example qucs schematic"/>
          <p:cNvPicPr/>
          <p:nvPr/>
        </p:nvPicPr>
        <p:blipFill>
          <a:blip r:embed="rId1"/>
          <a:stretch/>
        </p:blipFill>
        <p:spPr>
          <a:xfrm>
            <a:off x="4519440" y="1960560"/>
            <a:ext cx="4415040" cy="332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5f6d"/>
                </a:solidFill>
                <a:latin typeface="Century Schoolbook"/>
              </a:rPr>
              <a:t>KIRCHOFF VOLTAGE LAWS </a:t>
            </a:r>
            <a:br>
              <a:rPr sz="3500"/>
            </a:br>
            <a:r>
              <a:rPr b="0" lang="en-US" sz="3500" spc="-1" strike="noStrike">
                <a:solidFill>
                  <a:srgbClr val="575f6d"/>
                </a:solidFill>
                <a:latin typeface="Century Schoolbook"/>
              </a:rPr>
              <a:t>TEACHING APPROACH:</a:t>
            </a:r>
            <a:endParaRPr b="0" lang="en-US" sz="3500" spc="-1" strike="noStrike">
              <a:solidFill>
                <a:srgbClr val="575f6d"/>
              </a:solidFill>
              <a:latin typeface="Century Schoolbook"/>
            </a:endParaRPr>
          </a:p>
        </p:txBody>
      </p:sp>
      <p:sp>
        <p:nvSpPr>
          <p:cNvPr id="374" name=""/>
          <p:cNvSpPr txBox="1"/>
          <p:nvPr/>
        </p:nvSpPr>
        <p:spPr>
          <a:xfrm>
            <a:off x="1095120" y="1641240"/>
            <a:ext cx="4206600" cy="47941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Teacher reviews on smartboard interactively circuit examples and equations.</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 </a:t>
            </a:r>
            <a:r>
              <a:rPr b="0" lang="en-CA" sz="1400" spc="-1" strike="noStrike">
                <a:solidFill>
                  <a:srgbClr val="000000"/>
                </a:solidFill>
                <a:latin typeface="Century Schoolbook"/>
              </a:rPr>
              <a:t>First Law – Conservation of Curren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video on Kirchoff’s law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econd Law – Conservation of Voltage at Nodes</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Interactive demonstration on smartboard. </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voltage measurement with a DMM on example circuit.</a:t>
            </a:r>
            <a:endParaRPr b="0" lang="en-US" sz="1400" spc="-1" strike="noStrike">
              <a:solidFill>
                <a:srgbClr val="000000"/>
              </a:solidFill>
              <a:latin typeface="Century Schoolbook"/>
            </a:endParaRPr>
          </a:p>
          <a:p>
            <a:pPr lvl="1" marL="639720" indent="-272880">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Demonstrate current measurement with QUCS simulato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Lab Work:</a:t>
            </a:r>
            <a:endParaRPr b="0" lang="en-US" sz="1400" spc="-1" strike="noStrike">
              <a:solidFill>
                <a:srgbClr val="000000"/>
              </a:solidFill>
              <a:latin typeface="Century Schoolbook"/>
            </a:endParaRPr>
          </a:p>
          <a:p>
            <a:pPr lvl="1" marL="639720" indent="-272880">
              <a:spcBef>
                <a:spcPts val="4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entury Schoolbook"/>
              </a:rPr>
              <a:t>Solve Kirchoff’s circuit problems on QUCS simulator</a:t>
            </a:r>
            <a:r>
              <a:rPr b="0" lang="en-CA" sz="1600" spc="-1" strike="noStrike">
                <a:solidFill>
                  <a:srgbClr val="000000"/>
                </a:solidFill>
                <a:latin typeface="Century Schoolbook"/>
              </a:rPr>
              <a:t>.</a:t>
            </a:r>
            <a:endParaRPr b="0" lang="en-US" sz="1600" spc="-1" strike="noStrike">
              <a:solidFill>
                <a:srgbClr val="000000"/>
              </a:solidFill>
              <a:latin typeface="Century Schoolbook"/>
            </a:endParaRPr>
          </a:p>
        </p:txBody>
      </p:sp>
      <p:pic>
        <p:nvPicPr>
          <p:cNvPr id="375" name="Picture 2" descr="http://t1.gstatic.com/images?q=tbn:ANd9GcTsdWqxrrtr-0HVH487_wcz1yVZbAsnf5zBM9n8-RldThOYzTTWg9gjzuJk"/>
          <p:cNvPicPr/>
          <p:nvPr/>
        </p:nvPicPr>
        <p:blipFill>
          <a:blip r:embed="rId1"/>
          <a:stretch/>
        </p:blipFill>
        <p:spPr>
          <a:xfrm>
            <a:off x="5641920" y="2744640"/>
            <a:ext cx="27720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Robert</cp:lastModifiedBy>
  <dcterms:modified xsi:type="dcterms:W3CDTF">2012-07-17T23:40:32Z</dcterms:modified>
  <cp:revision>70</cp:revision>
  <dc:subject/>
  <dc:title>Teaching the Concept of Protein Synthesis Rebecca Lostracco Jacqueline McCann</dc:title>
</cp:coreProperties>
</file>