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35374-8745-4AC6-AEED-C24EB1EF6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7EBEB-EE55-4CA8-8F00-1BB85E31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FAE2F-0BF6-45EB-82C7-D6FF553D2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F9432-CCAC-41FD-8C79-830F6509E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2DC6A-F4C9-4816-9FF3-FA721C4CD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A3C63-F13D-4B17-92E7-5060B5C37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71A33-9248-4750-9FE0-06D043C78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80934-492B-47CA-AB8A-735C1D232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31FB9-B8DD-447D-AC11-BD596BA36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34018-F759-4636-B7E9-0D1281D48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886D9-26B5-4B5D-9D18-5D264CC7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895E-80AC-4485-9A93-315A28805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1DFC1-E62C-4317-AC37-5D8A35357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E20D2-17B8-486C-9C94-B12CCBAF1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FAD14-2A07-4199-924A-4516564DA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6B68A-3528-4B1F-9873-513EF008F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5E366-3407-4149-B92C-C97A852A6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E1423-2F8A-4813-A5F9-709FDE1D19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0BC44-4AC7-4186-A376-7ED06F7BD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450FC-5772-40D4-BD13-2F83C5A14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5BFD9-5B8A-4B15-8410-5505F71B9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FF7E9-732D-45DB-BF56-4B3423F58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F6E98-7D61-4368-8BCE-D1CBE3D9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4996B-1521-47AB-BB21-E8A353EC0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F734B-7E92-4E5D-8E83-7BC21EB90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F04E6-8040-4A09-ABA6-DE05F5685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1D3EA-5805-4E8F-BD68-32F1C4826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AF11A-C985-4859-AA09-FE605A6DC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81E29F-DEFD-4EA5-8ABE-8939C874B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351BC0-ACDF-4F4F-9C95-DABF85751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B3A33E-DC08-4D2B-8FCF-ED51B7BDC3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DFA6B-32B6-494E-8D3C-5D7E7ED64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26C00-0C39-4558-A295-67A59C80C7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F945-0177-4E01-B42B-A6FAA7B7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D7A28-D85A-49A9-991A-749A392DA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DE3FF3-6398-416F-88B3-427BD52BA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D9FD6F-00D0-41F3-8B5B-7BA53DC9E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4F1DA-2A33-434E-BFF4-4FC0341AC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9BD4A-22E0-47F3-9C37-79E904553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D4ED7-ADBB-4A9D-A0F1-28B4D28A4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054CB-1000-4D84-8EE0-E42BF5CA0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F7E2DB-584C-4427-9B02-2C4A5AC5EB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453F9-05BB-4607-B892-4F045F77F7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E94317-7DBC-4975-9E35-3CBA2CF4D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CDA8B-71D5-49CF-AA24-6170408F4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1B850-AE87-46C9-B023-4AD9D3D01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62ED71-00D4-409D-B84F-15FAB4F27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0B6E8-443F-4827-8A43-434D881B2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59B5E-CCB0-4821-AEAF-7E99C2DFE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FBA45-BBB6-4552-9746-FA59DAFD95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75F4F-2FA0-45D3-9546-E4EC7E0C4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EBE85-B7A4-43C5-BEC8-0C7FB74AD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CA7C3-066E-4C0C-BFA9-F9745F9B9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F50AB-620B-48A8-AB95-F39BE5A3E3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44CF68-D9C9-4A9B-B959-934EDB773B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417E4-DBEE-4534-96A9-3673F233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F0A6FC-7C64-4867-89D1-1F25A8C21A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FB5CBF-1D5B-4519-9D40-9014E1251C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B319D7-EC3F-4065-BC70-D6C57BE8E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56CE0-5570-4FDA-8C9D-4262A781ED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182D7-29A8-473D-8473-C17C791B0B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F9846E-4C8E-4A27-9036-4994A6669C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B774C4-2945-4964-9A1A-54FB598B3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DCDAB-40D1-4C26-87B4-ED7835F8D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7E9FC-23C3-4C50-99A9-D74A833CD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BE3D6-6A4D-4D12-AF7C-9927C100A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472D-5602-4330-B810-5171772D3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89D89-B5BF-46B6-90DD-871A13589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EFD16A-C3C4-41E4-A1D9-C524491202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E81963-6345-493C-AC38-ED23C5BA0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41D7B3-2A8D-4C7F-8A7E-FE20EDCB17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4F173-6404-40C6-A8F4-24D20A094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416A2C-FBB5-4B87-9EEB-C228493487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EA8E27-CDCB-4F36-A3FE-6D179AFD7F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A92BD-DE6B-402B-847D-3A3069975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C7D31-A4A7-4FB6-8BD9-7698D5F667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29D75-4D02-4792-A379-DADBBAD28E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8C91-6F00-42C2-965D-1003A448F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8A9E46-F72C-46FE-9180-45B254210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F4F12-03D5-49C6-BA43-D0B7346C2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51284-A705-4B78-A38A-E235639547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A96B6-842C-42E7-8544-B601189D98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217A7A-5661-46B7-A2C1-3C19CD0B97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EE65-09EE-42C2-A990-166F7ECD6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F4AEB-A0AD-473B-9488-2532CA7D78BF}"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12633-B693-40F6-A9D9-7D8BB12E299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AF622-C71B-4224-AFB8-7D14CD9BA609}"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2E64A-E6EB-447D-9C90-5269DBEA78A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A0CBC-F80F-4BFA-9793-81590BBA9804}"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C79BD-A898-488F-8AB3-905E93F8E77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BAE21-90BD-4FFE-AA9D-11F829D9AF0A}"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FE511-3288-43D9-A365-EB910BDBCFC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52969-7FFB-48B6-B897-F6ACF2BA6633}"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3C343-31CF-44DD-A776-5BF0FF0BF8F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C2294-10F6-4D61-8524-391FE2DCFC75}"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E409D-0856-4406-802F-903E8E61DAE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F0A2B-331B-4C40-9D56-302DFA230D4B}" type="datetime">
              <a:rPr b="0" lang="en-US" sz="1200" spc="-1" strike="noStrike">
                <a:solidFill>
                  <a:srgbClr val="b5a788"/>
                </a:solidFill>
                <a:latin typeface="Gill Sans MT"/>
              </a:rPr>
              <a:t>07/31/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061DE-FA60-484C-9DBD-68A15450A05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livestrong.com/article/276413-foods-that-increase-protein-synthesis/" TargetMode="External"/><Relationship Id="rId2" Type="http://schemas.openxmlformats.org/officeDocument/2006/relationships/hyperlink" Target="http://www.ncbi.nlm.nih.gov/pubmed/11440894" TargetMode="External"/><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earn.genetics.utah.edu/content/begin/dna/transcrib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1"/>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1"/>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1"/>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1"/>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2"/>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3"/>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4"/>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1"/>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Protein synthesis video.mp4" descr="Macintosh HD:Users:rebeccalostracco:Movies:Protein synthesis video.mp4"/>
          <p:cNvPicPr/>
          <p:nvPr/>
        </p:nvPicPr>
        <p:blipFill>
          <a:blip r:embed="rId1"/>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nodeType="clickEffect" fill="hold">
                      <p:stCondLst>
                        <p:cond evt="onClick">
                          <p:tgtEl>
                            <p:spTgt spid="33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1"/>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1"/>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1"/>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Janine</cp:lastModifiedBy>
  <dcterms:modified xsi:type="dcterms:W3CDTF">2011-10-30T21:18:30Z</dcterms:modified>
  <cp:revision>38</cp:revision>
  <dc:subject/>
  <dc:title>Teaching the Concept of Protein Synthesis Rebecca Lostracco Jacqueline McCann</dc:title>
</cp:coreProperties>
</file>