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DB238-BA1F-4671-87D0-9988370D3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17528-3406-4A83-9C00-8F841D722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ACFB9-BC48-4379-9C23-79500182F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5C4B5-3CC0-4383-B16A-30282FC29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20CD6-BB96-47CA-8B7E-574B36EC2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72A48-9EC8-49AA-A39C-CA7ACF984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6592F-95D7-41B4-B448-B44CFD9B5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55EDC-D77B-47C1-B0AE-281887C41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0C99A-60F6-4B1D-AD0A-C33C361EF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4A9E8-248B-44D6-83BE-6BC521BEF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3D2EC-0CBB-4C49-8BB9-B2359DB2F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8E47D-7894-42A0-82EF-059D795B7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925A0-8626-4638-B07F-249BF741E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659D3-3E59-4056-9CBE-38587E79F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25AB8-09B5-4FEF-9ACA-1A7E354EF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AEB2B-632B-45A5-85F1-5A7BF1711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8A698-A94B-4369-A5EB-FC157682D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8CB5C-ECAD-4EA3-A903-C48D035B5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80B58-6BA9-4847-952F-51D1DCDF3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09D84-244F-4E95-BB26-61E2102C7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FAA17-A0AE-4F0C-A7E1-0A393755D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7BF24-26ED-48ED-9264-8043753B8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E9FA-6FD9-4F21-9853-8A5A0866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2A519-A287-4E38-8CAD-9543FC21EC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25000-053B-4CE2-9BAC-98F23F685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C98F3-50F7-44E6-86F0-64D5AA3B0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06395-2D73-44E7-B6E1-1F4A67B3C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33202-089E-4446-AA09-C42083E2D1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C0B358-D5C1-4CDD-B3A1-DEF383F19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53C5AD-C4CB-4609-9BEC-BB43E7C21D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60EF43-2827-4076-81D5-C99D93A7F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39C95-7784-43A4-A84D-FFDF7E643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CAD85-F442-474E-B0D5-4414266B5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A87C-0608-4CC3-8883-5780F1A6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9A619-7B57-47C1-84B5-3812DCBC0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E100E-0FEC-44D2-A5B6-7B12E79E0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9A1D4-D9FB-49F9-A378-BE1155AED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D5E39-BE19-4F7C-8149-E1B0134C5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491F1-6427-4D12-B582-0ED15C6664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7096C-5273-4A17-BB7A-02E81BC18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52762-37A4-461E-8B85-D9CBA7439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CCB120-B7C1-4BC9-8ED5-D1B5B80F24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1881A-2BAE-4B00-8232-8E1AD662F7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A2450-8F8F-497F-8E9C-25FF28D3E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E6CC-596B-4A1E-B3B7-BA1F3ACF9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AFBD7D-BD47-497D-93A5-B5B8F09A1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DF7C5E-7E4A-4CA5-A138-7EADF5659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95D75-8FE0-4924-93BD-69E04A009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21FE6-73DF-423C-B31C-00C0623D0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35C06D-88F2-4725-A5E3-7E9D7B318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67819-08A7-4118-A449-6822EE027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D89C1-0F23-4E0D-AA5C-7C72FAE81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61CDC-45AF-41CB-A67E-0D3037F28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777695-F9AF-42BF-871F-9E662C1D1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9FBBFA-EC85-4039-93A9-4A05ABAFFF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1B53-B5F5-4578-9BA2-FEE38DFA3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67360D-A3FB-4F3F-8A73-FEF98E002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B66099-BA47-4D10-9850-DEDEA4140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6CBF2E-AEBE-43FE-ABD9-8487B4A17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9E163-1CEC-4536-8BFE-3E7B91962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0EB70-4B7E-4CEE-A90A-904200D36A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32DA6-8DF1-4484-B2CA-356182E37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A77675-0BAD-4E88-B58E-7CD021141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B8886-8DD5-4028-83DD-849058523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F241F-9893-4E37-8D9B-33883E54F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59440-E076-48E5-AD24-6DE0C73B0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4F6B-0B27-4D6F-9F61-3D49CEDE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BE1DBA-E43A-4F61-8AB0-E61AEFC17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38AC49-AA31-4651-BC0B-FB99B538FA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E4328-9C7D-42A4-9D29-39D25279F7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22BA11-F2DA-41D1-99E4-72AD038A3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8D35B-4339-476D-BD98-B8A90A7944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EC5DFD-15EC-4C45-8DF4-CD5198F7B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B2E69-7F27-493B-9671-6ED7BAF25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9E779-68E3-4F3D-9C61-AE54C5E32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4D4565-AC8B-4D5E-815E-3BC20A0C1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51916-7E12-4544-A9E5-F454BA724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F5FB-1E02-40F0-AC65-5F4A4312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C1BB4-7394-425E-A4AE-94738CCBEB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C9585-427F-40ED-8F9B-3CADE1AF8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8C845-9E20-44E9-9103-26EDE43D8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13554F-A34D-48E2-8FAA-752DB3D589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DB9F72-D922-406A-8178-B74E5C8C99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3ED89-7EC8-43AC-B9B1-D0389D2D6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B4BCB-33F5-4240-B513-3ADC7213B3A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E57F2-15A0-42C3-AB5B-9A083D14C9B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CB672-4908-456F-A2C4-B3BFD3256EEA}"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45F2B-DD48-4DA5-B82F-BFB85585378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6254C-CC6B-484D-AF5C-65B9756441B5}"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C2FFA-4D7E-4752-B2BA-1BFACCF6176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D60D6-45A7-40E0-8D94-DC38FF0AD551}"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B75FF-2D7C-46B0-9990-43E7E2AB88A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44F03-03CE-40C2-8CBA-B6677B8CA724}"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5D43D-680B-4184-B00A-3BCEBEFA751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F1836-6C8D-4D02-88CB-ADFEEC81AF62}"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9615C-99B6-4FD2-87D5-BFADEE9B820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2CB5E-A5D6-432E-B535-C97C79ABBB8D}" type="datetime">
              <a:rPr b="0" lang="en-US" sz="1200" spc="-1" strike="noStrike">
                <a:solidFill>
                  <a:srgbClr val="b5a788"/>
                </a:solidFill>
                <a:latin typeface="Gill Sans MT"/>
              </a:rPr>
              <a:t>07/29/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55AEC-EB5E-4FF6-9A72-B7412CB94D1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livestrong.com/article/276413-foods-that-increase-protein-synthesis/" TargetMode="External"/><Relationship Id="rId2" Type="http://schemas.openxmlformats.org/officeDocument/2006/relationships/hyperlink" Target="http://www.ncbi.nlm.nih.gov/pubmed/11440894" TargetMode="External"/><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earn.genetics.utah.edu/content/begin/dna/transcrib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1095480"/>
            <a:ext cx="7407000" cy="1473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2314"/>
                </a:solidFill>
                <a:latin typeface="Gill Sans MT"/>
              </a:rPr>
              <a:t>Teaching the Concept of</a:t>
            </a:r>
            <a:br>
              <a:rPr sz="4800"/>
            </a:br>
            <a:r>
              <a:rPr b="0" lang="en-US" sz="4800" spc="-1" strike="noStrike">
                <a:solidFill>
                  <a:srgbClr val="572314"/>
                </a:solidFill>
                <a:latin typeface="Gill Sans MT"/>
              </a:rPr>
              <a:t>Protein Synthesis</a:t>
            </a:r>
            <a:br>
              <a:rPr sz="4800"/>
            </a:br>
            <a:r>
              <a:rPr b="0" lang="en-US" sz="2800" spc="-1" strike="noStrike">
                <a:solidFill>
                  <a:srgbClr val="572314"/>
                </a:solidFill>
                <a:latin typeface="Gill Sans MT"/>
              </a:rPr>
              <a:t>Rebecca Lostracco</a:t>
            </a:r>
            <a:br>
              <a:rPr sz="2800"/>
            </a:br>
            <a:r>
              <a:rPr b="0" lang="en-US" sz="2800" spc="-1" strike="noStrike">
                <a:solidFill>
                  <a:srgbClr val="572314"/>
                </a:solidFill>
                <a:latin typeface="Gill Sans MT"/>
              </a:rPr>
              <a:t>Jacqueline McCann</a:t>
            </a:r>
            <a:endParaRPr b="0" lang="en-US" sz="2800" spc="-1" strike="noStrike">
              <a:solidFill>
                <a:srgbClr val="572314"/>
              </a:solidFill>
              <a:latin typeface="Gill Sans MT"/>
            </a:endParaRPr>
          </a:p>
        </p:txBody>
      </p:sp>
      <p:pic>
        <p:nvPicPr>
          <p:cNvPr id="319" name="Picture 3" descr=""/>
          <p:cNvPicPr/>
          <p:nvPr/>
        </p:nvPicPr>
        <p:blipFill>
          <a:blip r:embed="rId1"/>
          <a:stretch/>
        </p:blipFill>
        <p:spPr>
          <a:xfrm>
            <a:off x="2571840" y="2793960"/>
            <a:ext cx="5270400" cy="342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88880" y="280800"/>
            <a:ext cx="7405560" cy="88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olutions to Student Difficulties</a:t>
            </a:r>
            <a:endParaRPr b="0" lang="en-US" sz="4300" spc="-1" strike="noStrike">
              <a:solidFill>
                <a:srgbClr val="572314"/>
              </a:solidFill>
              <a:latin typeface="Gill Sans MT"/>
            </a:endParaRPr>
          </a:p>
        </p:txBody>
      </p:sp>
      <p:sp>
        <p:nvSpPr>
          <p:cNvPr id="346" name="PlaceHolder 2"/>
          <p:cNvSpPr>
            <a:spLocks noGrp="1"/>
          </p:cNvSpPr>
          <p:nvPr>
            <p:ph type="subTitle"/>
          </p:nvPr>
        </p:nvSpPr>
        <p:spPr>
          <a:xfrm>
            <a:off x="1388880" y="1168560"/>
            <a:ext cx="7405560" cy="52178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Role-play activity will help to make concept more concrete</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Students can make their own mnemonic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for remembering stop codons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AU, UAG, UG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ing an anchor chart with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nucleotide bases and their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rresponding amino acid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During role-play activity, emphasize the distinction between mRNA and tRNA by having the students in those groups wear a label</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Create a T-Chart/Venn Diagram to compare roles of DNA &amp; RNA and mRNA &amp; tRNA</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Model translation in role-play activity slowly and clearly for the students</a:t>
            </a:r>
            <a:endParaRPr b="0" lang="en-US" sz="20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 </a:t>
            </a:r>
            <a:r>
              <a:rPr b="0" lang="en-CA" sz="2000" spc="-1" strike="noStrike">
                <a:solidFill>
                  <a:srgbClr val="320e04"/>
                </a:solidFill>
                <a:latin typeface="Gill Sans MT"/>
              </a:rPr>
              <a:t>Have students proceed step-by-step, explaining their role in the process</a:t>
            </a:r>
            <a:endParaRPr b="0" lang="en-US" sz="20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47" name="animation.gif" descr="C:\Users\Jackie\Desktop\animation.gif"/>
          <p:cNvPicPr/>
          <p:nvPr/>
        </p:nvPicPr>
        <p:blipFill>
          <a:blip r:embed="rId1"/>
          <a:stretch/>
        </p:blipFill>
        <p:spPr>
          <a:xfrm>
            <a:off x="5419800" y="1968480"/>
            <a:ext cx="2603520" cy="17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1720" y="264600"/>
            <a:ext cx="74070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Safety Considerations</a:t>
            </a:r>
            <a:endParaRPr b="0" lang="en-US" sz="4300" spc="-1" strike="noStrike">
              <a:solidFill>
                <a:srgbClr val="572314"/>
              </a:solidFill>
              <a:latin typeface="Gill Sans MT"/>
            </a:endParaRPr>
          </a:p>
        </p:txBody>
      </p:sp>
      <p:sp>
        <p:nvSpPr>
          <p:cNvPr id="349" name="PlaceHolder 2"/>
          <p:cNvSpPr>
            <a:spLocks noGrp="1"/>
          </p:cNvSpPr>
          <p:nvPr>
            <p:ph type="subTitle"/>
          </p:nvPr>
        </p:nvSpPr>
        <p:spPr>
          <a:xfrm>
            <a:off x="1031760" y="1385640"/>
            <a:ext cx="8112240" cy="449892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his unit includes a virtual lab, which makes the main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afety concern appropriate internet conduct</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To safely implement the role-pla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ctivity, the classroom will need to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be free from clutter with space for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to move around</a:t>
            </a:r>
            <a:endParaRPr b="0" lang="en-US" sz="26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tudents will be given explicit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structions on the role play activity so they </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re aware of the expectations how to execute their role</a:t>
            </a:r>
            <a:endParaRPr b="0" lang="en-US" sz="2600" spc="-1" strike="noStrike">
              <a:solidFill>
                <a:srgbClr val="000000"/>
              </a:solidFill>
              <a:latin typeface="Gill Sans MT"/>
            </a:endParaRPr>
          </a:p>
        </p:txBody>
      </p:sp>
      <p:pic>
        <p:nvPicPr>
          <p:cNvPr id="350" name="Picture 2" descr="http://www.metrolic.com/wp-content/uploads/2010/08/safety.gif"/>
          <p:cNvPicPr/>
          <p:nvPr/>
        </p:nvPicPr>
        <p:blipFill>
          <a:blip r:embed="rId1"/>
          <a:stretch/>
        </p:blipFill>
        <p:spPr>
          <a:xfrm>
            <a:off x="6238800" y="2292480"/>
            <a:ext cx="2157480" cy="229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Gill Sans MT"/>
              </a:rPr>
              <a:t>Practical Applications</a:t>
            </a:r>
            <a:endParaRPr b="0" lang="en-US" sz="4200" spc="-1" strike="noStrike">
              <a:solidFill>
                <a:srgbClr val="000000"/>
              </a:solidFill>
              <a:latin typeface="Arial"/>
            </a:endParaRPr>
          </a:p>
        </p:txBody>
      </p:sp>
      <p:sp>
        <p:nvSpPr>
          <p:cNvPr id="352" name="Subtitle 2"/>
          <p:cNvSpPr/>
          <p:nvPr/>
        </p:nvSpPr>
        <p:spPr>
          <a:xfrm>
            <a:off x="1432080" y="1143000"/>
            <a:ext cx="7407000" cy="224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t>
            </a:r>
            <a:r>
              <a:rPr b="0" lang="en-CA" sz="2600" spc="-1" strike="noStrike">
                <a:solidFill>
                  <a:srgbClr val="320e04"/>
                </a:solidFill>
                <a:latin typeface="Gill Sans MT"/>
              </a:rPr>
              <a:t>What makes a Firefly Glow?” </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emonstration of how protein synthesis is involved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in making a firefly glow</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1"/>
              </a:rPr>
              <a:t>Foods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examples of foods that increase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protein synthesis to support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muscle building</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8dc765"/>
                </a:solidFill>
                <a:uFillTx/>
                <a:latin typeface="Gill Sans MT"/>
                <a:hlinkClick r:id="rId2"/>
              </a:rPr>
              <a:t>Exercise and Protein Synthesis</a:t>
            </a:r>
            <a:endParaRPr b="0" lang="en-US" sz="26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protein </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synthesis in relation to exercise</a:t>
            </a:r>
            <a:endParaRPr b="0" lang="en-US" sz="2600" spc="-1" strike="noStrike">
              <a:solidFill>
                <a:srgbClr val="000000"/>
              </a:solidFill>
              <a:latin typeface="Arial"/>
            </a:endParaRPr>
          </a:p>
        </p:txBody>
      </p:sp>
      <p:pic>
        <p:nvPicPr>
          <p:cNvPr id="353" name="Picture 4" descr="http://www.firefly.org/images/pictures/firefly-closeup.jpg"/>
          <p:cNvPicPr/>
          <p:nvPr/>
        </p:nvPicPr>
        <p:blipFill>
          <a:blip r:embed="rId3"/>
          <a:stretch/>
        </p:blipFill>
        <p:spPr>
          <a:xfrm>
            <a:off x="6719760" y="414360"/>
            <a:ext cx="2119320" cy="1457280"/>
          </a:xfrm>
          <a:prstGeom prst="rect">
            <a:avLst/>
          </a:prstGeom>
          <a:ln w="0">
            <a:noFill/>
          </a:ln>
        </p:spPr>
      </p:pic>
      <p:pic>
        <p:nvPicPr>
          <p:cNvPr id="354" name="Picture 6" descr="http://crossfitoneworld.typepad.com/.a/6a00d8341bf90553ef0133ed23234d970b-800wi"/>
          <p:cNvPicPr/>
          <p:nvPr/>
        </p:nvPicPr>
        <p:blipFill>
          <a:blip r:embed="rId4"/>
          <a:stretch/>
        </p:blipFill>
        <p:spPr>
          <a:xfrm>
            <a:off x="6508800" y="3030480"/>
            <a:ext cx="2330280" cy="34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1720" y="145800"/>
            <a:ext cx="7407000" cy="84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Differentiated Assessment</a:t>
            </a:r>
            <a:endParaRPr b="0" lang="en-US" sz="4300" spc="-1" strike="noStrike">
              <a:solidFill>
                <a:srgbClr val="572314"/>
              </a:solidFill>
              <a:latin typeface="Gill Sans MT"/>
            </a:endParaRPr>
          </a:p>
        </p:txBody>
      </p:sp>
      <p:sp>
        <p:nvSpPr>
          <p:cNvPr id="356" name="Subtitle 2"/>
          <p:cNvSpPr/>
          <p:nvPr/>
        </p:nvSpPr>
        <p:spPr>
          <a:xfrm>
            <a:off x="1152360" y="1192320"/>
            <a:ext cx="799164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a choice for their culminating task assessment on protein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ynthesi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poster displaying the process of protein synthesis (Visu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song about the concept of protein synthesis (Music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3-D model showing the main “players” in protein synthesis (Kinesthe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videotaped oral story about the process of protein synthesis (Linguistic)</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journal entry on what they learned about protein synthesis (Intra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esson on protein synthesis that is taught to the class (Interpersonal)</a:t>
            </a:r>
            <a:endParaRPr b="0" lang="en-US" sz="1800" spc="-1" strike="noStrike">
              <a:solidFill>
                <a:srgbClr val="000000"/>
              </a:solidFill>
              <a:latin typeface="Arial"/>
            </a:endParaRPr>
          </a:p>
          <a:p>
            <a:pPr lvl="1" marL="484200">
              <a:lnSpc>
                <a:spcPct val="100000"/>
              </a:lnSpc>
              <a:spcBef>
                <a:spcPts val="601"/>
              </a:spcBef>
              <a:buClr>
                <a:srgbClr val="3891a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A lab activity involving transcription of provided DNA nucleotide sequences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into mRNA, splicing of the mRNA, and translation of the mRNA into a  </a:t>
            </a:r>
            <a:endParaRPr b="0" lang="en-US" sz="1800" spc="-1" strike="noStrike">
              <a:solidFill>
                <a:srgbClr val="000000"/>
              </a:solidFill>
              <a:latin typeface="Arial"/>
            </a:endParaRPr>
          </a:p>
          <a:p>
            <a:pPr lvl="1" marL="484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protein (Logical)</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of protein synthesis would also be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evaluated on a unit test</a:t>
            </a:r>
            <a:endParaRPr b="0" lang="en-US" sz="1800" spc="-1" strike="noStrike">
              <a:solidFill>
                <a:srgbClr val="000000"/>
              </a:solidFill>
              <a:latin typeface="Arial"/>
            </a:endParaRPr>
          </a:p>
          <a:p>
            <a:pPr marL="27000">
              <a:lnSpc>
                <a:spcPct val="100000"/>
              </a:lnSpc>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Formative assessment would be completed based on students’ contributions to </a:t>
            </a:r>
            <a:endParaRPr b="0" lang="en-US" sz="18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class discussions during role-play and participation in the online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Introduction to Protein Synthesis</a:t>
            </a:r>
            <a:endParaRPr b="0" lang="en-US" sz="3900" spc="-1" strike="noStrike">
              <a:solidFill>
                <a:srgbClr val="572314"/>
              </a:solidFill>
              <a:latin typeface="Gill Sans MT"/>
            </a:endParaRPr>
          </a:p>
        </p:txBody>
      </p:sp>
      <p:sp>
        <p:nvSpPr>
          <p:cNvPr id="321" name=""/>
          <p:cNvSpPr txBox="1"/>
          <p:nvPr/>
        </p:nvSpPr>
        <p:spPr>
          <a:xfrm>
            <a:off x="1434960" y="1447560"/>
            <a:ext cx="3835440" cy="4800600"/>
          </a:xfrm>
          <a:prstGeom prst="rect">
            <a:avLst/>
          </a:prstGeom>
          <a:noFill/>
          <a:ln w="0">
            <a:noFill/>
          </a:ln>
        </p:spPr>
        <p:txBody>
          <a:bodyPr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f you asked any body builder, the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uld tell you that muscles are buil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protein. But have they ever</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ondered how proteins are</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ctually made in our body?</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It all starts with one thing: </a:t>
            </a:r>
            <a:r>
              <a:rPr b="0" lang="en-US" sz="2400" spc="-1" strike="noStrike">
                <a:solidFill>
                  <a:srgbClr val="000000"/>
                </a:solidFill>
                <a:latin typeface="Gill Sans MT"/>
              </a:rPr>
              <a:t>DNA!</a:t>
            </a:r>
            <a:endParaRPr b="0" lang="en-US" sz="24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ow you just create protein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rom DNA. Sounds simple, right?</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rong!</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o understand this concept, you’ll</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ed to learn about the </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ill Sans MT"/>
              </a:rPr>
              <a:t>central dogma</a:t>
            </a:r>
            <a:r>
              <a:rPr b="0" lang="en-US" sz="1900" spc="-1" strike="noStrike">
                <a:solidFill>
                  <a:srgbClr val="000000"/>
                </a:solidFill>
                <a:latin typeface="Gill Sans MT"/>
              </a:rPr>
              <a:t> of transcription</a:t>
            </a:r>
            <a:endParaRPr b="0" lang="en-US" sz="19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and translation. </a:t>
            </a:r>
            <a:endParaRPr b="0" lang="en-US" sz="1900" spc="-1" strike="noStrike">
              <a:solidFill>
                <a:srgbClr val="000000"/>
              </a:solidFill>
              <a:latin typeface="Gill Sans MT"/>
            </a:endParaRPr>
          </a:p>
        </p:txBody>
      </p:sp>
      <p:pic>
        <p:nvPicPr>
          <p:cNvPr id="322" name="Picture 3" descr=""/>
          <p:cNvPicPr/>
          <p:nvPr/>
        </p:nvPicPr>
        <p:blipFill>
          <a:blip r:embed="rId1"/>
          <a:stretch/>
        </p:blipFill>
        <p:spPr>
          <a:xfrm>
            <a:off x="5619600" y="1163520"/>
            <a:ext cx="3524400" cy="5567400"/>
          </a:xfrm>
          <a:prstGeom prst="rect">
            <a:avLst/>
          </a:prstGeom>
          <a:ln w="0">
            <a:noFill/>
          </a:ln>
        </p:spPr>
      </p:pic>
      <p:cxnSp>
        <p:nvCxnSpPr>
          <p:cNvPr id="323" name="Curved Connector 5"/>
          <p:cNvCxnSpPr/>
          <p:nvPr/>
        </p:nvCxnSpPr>
        <p:spPr>
          <a:xfrm flipV="1" rot="16200000">
            <a:off x="3967920" y="4380840"/>
            <a:ext cx="2080440" cy="524160"/>
          </a:xfrm>
          <a:prstGeom prst="curvedConnector5">
            <a:avLst>
              <a:gd name="adj1" fmla="val 74420"/>
              <a:gd name="adj2" fmla="val 49965"/>
              <a:gd name="adj3" fmla="val 74420"/>
            </a:avLst>
          </a:prstGeom>
          <a:ln w="25560">
            <a:solidFill>
              <a:srgbClr val="ff0000"/>
            </a:solidFill>
            <a:miter/>
            <a:tailEnd len="med" type="arrow" w="med"/>
          </a:ln>
        </p:spPr>
      </p:cxnSp>
      <p:sp>
        <p:nvSpPr>
          <p:cNvPr id="324" name="TextBox 31"/>
          <p:cNvSpPr/>
          <p:nvPr/>
        </p:nvSpPr>
        <p:spPr>
          <a:xfrm>
            <a:off x="4282920" y="5602320"/>
            <a:ext cx="15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Really, reall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Gill Sans MT"/>
              </a:rPr>
              <a:t>     </a:t>
            </a:r>
            <a:r>
              <a:rPr b="0" lang="en-US" sz="1800" spc="-1" strike="noStrike">
                <a:solidFill>
                  <a:srgbClr val="ff0000"/>
                </a:solidFill>
                <a:latin typeface="Gill Sans MT"/>
              </a:rPr>
              <a:t>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sson Sequence</a:t>
            </a:r>
            <a:endParaRPr b="0" lang="en-US" sz="4300" spc="-1" strike="noStrike">
              <a:solidFill>
                <a:srgbClr val="572314"/>
              </a:solidFill>
              <a:latin typeface="Gill Sans MT"/>
            </a:endParaRPr>
          </a:p>
        </p:txBody>
      </p:sp>
      <p:sp>
        <p:nvSpPr>
          <p:cNvPr id="326" name=""/>
          <p:cNvSpPr txBox="1"/>
          <p:nvPr/>
        </p:nvSpPr>
        <p:spPr>
          <a:xfrm>
            <a:off x="1174320" y="1447560"/>
            <a:ext cx="7969320" cy="52038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1: Protein Synthesis:  An Overview</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Central Dogma, RNA, The Genetic Code</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2: Transcrip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tion, Elongatio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3: Translation</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Ribosome, Transfer RNA, Elongation of the Polypeptide Chain, Termin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4: Control Mechanism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a:t>
            </a:r>
            <a:r>
              <a:rPr b="0" i="1" lang="en-US" sz="2000" spc="-1" strike="noStrike">
                <a:solidFill>
                  <a:srgbClr val="000000"/>
                </a:solidFill>
                <a:latin typeface="Gill Sans MT"/>
              </a:rPr>
              <a:t>lac</a:t>
            </a:r>
            <a:r>
              <a:rPr b="0" lang="en-US" sz="2000" spc="-1" strike="noStrike">
                <a:solidFill>
                  <a:srgbClr val="000000"/>
                </a:solidFill>
                <a:latin typeface="Gill Sans MT"/>
              </a:rPr>
              <a:t> Operon, the </a:t>
            </a:r>
            <a:r>
              <a:rPr b="0" i="1" lang="en-US" sz="2000" spc="-1" strike="noStrike">
                <a:solidFill>
                  <a:srgbClr val="000000"/>
                </a:solidFill>
                <a:latin typeface="Gill Sans MT"/>
              </a:rPr>
              <a:t>trp</a:t>
            </a:r>
            <a:r>
              <a:rPr b="0" lang="en-US" sz="2000" spc="-1" strike="noStrike">
                <a:solidFill>
                  <a:srgbClr val="000000"/>
                </a:solidFill>
                <a:latin typeface="Gill Sans MT"/>
              </a:rPr>
              <a:t> Oper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5: Mutations</a:t>
            </a:r>
            <a:endParaRPr b="0" lang="en-US" sz="2400" spc="-1" strike="noStrike">
              <a:solidFill>
                <a:srgbClr val="000000"/>
              </a:solidFill>
              <a:latin typeface="Gill Sans MT"/>
            </a:endParaRPr>
          </a:p>
          <a:p>
            <a:pPr lvl="1" marL="633240" indent="-23400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ypes of Mutation, Causes of Mutation</a:t>
            </a: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sson 6: Differences Between Eukaryotes and Prokaryotes</a:t>
            </a:r>
            <a:endParaRPr b="0" lang="en-US" sz="24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58640" y="282600"/>
            <a:ext cx="7407000" cy="852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Curriculum Expectations</a:t>
            </a:r>
            <a:endParaRPr b="0" lang="en-US" sz="4300" spc="-1" strike="noStrike">
              <a:solidFill>
                <a:srgbClr val="572314"/>
              </a:solidFill>
              <a:latin typeface="Gill Sans MT"/>
            </a:endParaRPr>
          </a:p>
        </p:txBody>
      </p:sp>
      <p:sp>
        <p:nvSpPr>
          <p:cNvPr id="328" name="PlaceHolder 2"/>
          <p:cNvSpPr>
            <a:spLocks noGrp="1"/>
          </p:cNvSpPr>
          <p:nvPr>
            <p:ph type="subTitle"/>
          </p:nvPr>
        </p:nvSpPr>
        <p:spPr>
          <a:xfrm>
            <a:off x="1431720" y="126792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2.4 investigate and analyse the cell component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volved in the 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using appropriate laboratory equipment and</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0e04"/>
                </a:solidFill>
                <a:latin typeface="Gill Sans MT"/>
              </a:rPr>
              <a:t>techniques, or a computer simulation </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2 compare the structures and function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NA and DNA, and explain their roles in the</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cess of protein synthes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D3.3 explain the steps involved in the process of</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tein synthesis and how genetic expression is</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controlled in prokaryotes and eukaryotes by</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regulatory proteins (e.g., the role of operons i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prokaryotic cells; the mechanism of gene expression</a:t>
            </a:r>
            <a:endParaRPr b="0" lang="en-US" sz="20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20e04"/>
                </a:solidFill>
                <a:latin typeface="Gill Sans MT"/>
              </a:rPr>
              <a:t>in eukaryotic cells)</a:t>
            </a:r>
            <a:endParaRPr b="0" lang="en-US" sz="2000" spc="-1" strike="noStrike">
              <a:solidFill>
                <a:srgbClr val="000000"/>
              </a:solidFill>
              <a:latin typeface="Gill Sans MT"/>
            </a:endParaRPr>
          </a:p>
        </p:txBody>
      </p:sp>
      <p:pic>
        <p:nvPicPr>
          <p:cNvPr id="329"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deo demonstration of Protein Synthesis</a:t>
            </a:r>
            <a:endParaRPr b="0" lang="en-US" sz="2400" spc="-1" strike="noStrike">
              <a:solidFill>
                <a:srgbClr val="000000"/>
              </a:solidFill>
              <a:latin typeface="Gill Sans MT"/>
            </a:endParaRPr>
          </a:p>
        </p:txBody>
      </p:sp>
      <p:pic>
        <p:nvPicPr>
          <p:cNvPr id="332" name="Protein synthesis video.mp4" descr="Macintosh HD:Users:rebeccalostracco:Movies:Protein synthesis video.mp4"/>
          <p:cNvPicPr/>
          <p:nvPr/>
        </p:nvPicPr>
        <p:blipFill>
          <a:blip r:embed="rId1"/>
          <a:stretch/>
        </p:blipFill>
        <p:spPr>
          <a:xfrm>
            <a:off x="2048040" y="192096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32"/>
                    </p:tgtEl>
                  </p:cond>
                </p:stCondLst>
                <p:childTnLst>
                  <p:par>
                    <p:cTn id="3" nodeType="clickEffect" fill="hold">
                      <p:stCondLst>
                        <p:cond evt="onClick">
                          <p:tgtEl>
                            <p:spTgt spid="332"/>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3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Virtual Lab</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use an inquiry-based approach to transcribe a DNA molecule into RNA, and then translate the mRNA into a protein</a:t>
            </a:r>
            <a:endParaRPr b="0" lang="en-US" sz="20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udents interactively learn more about transcription and translation</a:t>
            </a: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dc765"/>
                </a:solidFill>
                <a:uFillTx/>
                <a:latin typeface="Gill Sans MT"/>
                <a:hlinkClick r:id="rId1"/>
              </a:rPr>
              <a:t>Transcription and Translation Virtual Lab</a:t>
            </a:r>
            <a:endParaRPr b="0" lang="en-US" sz="2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pic>
        <p:nvPicPr>
          <p:cNvPr id="335" name="Picture 8" descr="cendogma"/>
          <p:cNvPicPr/>
          <p:nvPr/>
        </p:nvPicPr>
        <p:blipFill>
          <a:blip r:embed="rId2"/>
          <a:stretch/>
        </p:blipFill>
        <p:spPr>
          <a:xfrm>
            <a:off x="2571840" y="3825720"/>
            <a:ext cx="5032440" cy="28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Play</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acher ropes off a designated area as the nucleus where transcription must occur.  The rest of the classroom is the cytoplasm where translation will occur.</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DNA sequences (24 nucleotides in each) </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mRNA sequences</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tudents are assigned to complementary tRNA anticodons with corresponding amino acids (polypeptide chain)</a:t>
            </a:r>
            <a:endParaRPr b="0" lang="en-US" sz="1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 special learning opportunity messages (Ex. “Ribosomes move along the mRNA in a 5’ to 3’ direction, while reading the coding sequence.”) are posted around the classroom corresponding to amino acid polypeptide chains</a:t>
            </a:r>
            <a:endParaRPr b="0" lang="en-US" sz="1800" spc="-1" strike="noStrike">
              <a:solidFill>
                <a:srgbClr val="000000"/>
              </a:solidFill>
              <a:latin typeface="Gill Sans MT"/>
            </a:endParaRPr>
          </a:p>
        </p:txBody>
      </p:sp>
      <p:pic>
        <p:nvPicPr>
          <p:cNvPr id="338" name="Picture 7" descr=""/>
          <p:cNvPicPr/>
          <p:nvPr/>
        </p:nvPicPr>
        <p:blipFill>
          <a:blip r:embed="rId1"/>
          <a:stretch/>
        </p:blipFill>
        <p:spPr>
          <a:xfrm>
            <a:off x="4145040" y="5302080"/>
            <a:ext cx="3274920" cy="15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Gill Sans MT"/>
              </a:rPr>
              <a:t>The Central Dogma:</a:t>
            </a:r>
            <a:br>
              <a:rPr sz="3500"/>
            </a:br>
            <a:r>
              <a:rPr b="0" lang="en-US" sz="3500" spc="-1" strike="noStrike">
                <a:solidFill>
                  <a:srgbClr val="572314"/>
                </a:solidFill>
                <a:latin typeface="Gill Sans MT"/>
              </a:rPr>
              <a:t>Teaching Approach</a:t>
            </a:r>
            <a:endParaRPr b="0" lang="en-US" sz="3500" spc="-1" strike="noStrike">
              <a:solidFill>
                <a:srgbClr val="572314"/>
              </a:solidFill>
              <a:latin typeface="Gill Sans MT"/>
            </a:endParaRPr>
          </a:p>
        </p:txBody>
      </p:sp>
      <p:sp>
        <p:nvSpPr>
          <p:cNvPr id="340" name=""/>
          <p:cNvSpPr txBox="1"/>
          <p:nvPr/>
        </p:nvSpPr>
        <p:spPr>
          <a:xfrm>
            <a:off x="1434960" y="1447920"/>
            <a:ext cx="7499520" cy="5076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tein Synthesis Role Play Continued</a:t>
            </a:r>
            <a:endParaRPr b="0" lang="en-US" sz="32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A students and mRNA students remain in nucleus during transcription. After transcription, mRNA students move into cytoplasm, where tRNA students are waiting for translation. </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NA students begin by writing down the complimentary RNA sequence to their DNA sequence (transcription).  They then search the nucleus for their matching m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RNA student then leaves the nucleus and uses the genetic code to write down the corresponding amino acids to their RNA sequence (translation). They then search the cytoplasm for their matching tRNA student.</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RNA student then searches for the                                           special message associated with their                                              polypeptide chain, thus completing                                                    the task.</a:t>
            </a:r>
            <a:endParaRPr b="0" lang="en-US" sz="1800" spc="-1" strike="noStrike">
              <a:solidFill>
                <a:srgbClr val="000000"/>
              </a:solidFill>
              <a:latin typeface="Gill Sans MT"/>
            </a:endParaRPr>
          </a:p>
          <a:p>
            <a:pPr lvl="1" marL="620280" indent="-2293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1" name="Picture 3" descr=""/>
          <p:cNvPicPr/>
          <p:nvPr/>
        </p:nvPicPr>
        <p:blipFill>
          <a:blip r:embed="rId1"/>
          <a:stretch/>
        </p:blipFill>
        <p:spPr>
          <a:xfrm>
            <a:off x="6048360" y="4836960"/>
            <a:ext cx="3095640" cy="16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220320"/>
            <a:ext cx="7407000" cy="957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300" spc="-1" strike="noStrike">
                <a:solidFill>
                  <a:srgbClr val="572314"/>
                </a:solidFill>
                <a:latin typeface="Gill Sans MT"/>
              </a:rPr>
              <a:t>Potential Student Difficulties</a:t>
            </a:r>
            <a:endParaRPr b="0" lang="en-US" sz="4300" spc="-1" strike="noStrike">
              <a:solidFill>
                <a:srgbClr val="572314"/>
              </a:solidFill>
              <a:latin typeface="Gill Sans MT"/>
            </a:endParaRPr>
          </a:p>
        </p:txBody>
      </p:sp>
      <p:sp>
        <p:nvSpPr>
          <p:cNvPr id="343" name="PlaceHolder 2"/>
          <p:cNvSpPr>
            <a:spLocks noGrp="1"/>
          </p:cNvSpPr>
          <p:nvPr>
            <p:ph type="subTitle"/>
          </p:nvPr>
        </p:nvSpPr>
        <p:spPr>
          <a:xfrm>
            <a:off x="1357200" y="1193760"/>
            <a:ext cx="6724800" cy="5394240"/>
          </a:xfrm>
          <a:prstGeom prst="rect">
            <a:avLst/>
          </a:prstGeom>
          <a:noFill/>
          <a:ln w="0">
            <a:noFill/>
          </a:ln>
        </p:spPr>
        <p:txBody>
          <a:bodyPr tIns="0" anchor="t">
            <a:noAutofit/>
          </a:bodyPr>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bstract concept – may be hard for students to picture </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membering that in RNA, Thymine is replaced with </a:t>
            </a:r>
            <a:r>
              <a:rPr b="1" lang="en-CA" sz="1800" spc="-1" strike="noStrike">
                <a:solidFill>
                  <a:srgbClr val="320e04"/>
                </a:solidFill>
                <a:latin typeface="Gill Sans MT"/>
              </a:rPr>
              <a:t>Uracil</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the matches between nucleotide bases and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mino acids (i.e., using the genetic code tabl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Distinguishing between DNA and RNA as well as between the roles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f mRNA and tRNA</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mRNA carries coded DNA message</a:t>
            </a:r>
            <a:endParaRPr b="0" lang="en-US" sz="1800" spc="-1" strike="noStrike">
              <a:solidFill>
                <a:srgbClr val="000000"/>
              </a:solidFill>
              <a:latin typeface="Gill Sans MT"/>
            </a:endParaRPr>
          </a:p>
          <a:p>
            <a:pPr lvl="1" marL="45720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 </a:t>
            </a:r>
            <a:r>
              <a:rPr b="0" lang="en-CA" sz="1800" spc="-1" strike="noStrike">
                <a:solidFill>
                  <a:srgbClr val="000000"/>
                </a:solidFill>
                <a:latin typeface="Gill Sans MT"/>
              </a:rPr>
              <a:t>tRNA carries amino acids</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Recognizing a stop codon which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ignals for translation to end</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ly 2 tRNA molecules can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attach to the ribosome at a time</a:t>
            </a:r>
            <a:endParaRPr b="0" lang="en-US" sz="1800" spc="-1" strike="noStrike">
              <a:solidFill>
                <a:srgbClr val="000000"/>
              </a:solidFill>
              <a:latin typeface="Gill Sans MT"/>
            </a:endParaRPr>
          </a:p>
          <a:p>
            <a:pPr marL="27000">
              <a:spcBef>
                <a:spcPts val="601"/>
              </a:spcBef>
              <a:buClr>
                <a:srgbClr val="3891a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Polypeptide chain is transferred from</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one tRNA to the other before tRNA </a:t>
            </a:r>
            <a:endParaRPr b="0" lang="en-US" sz="18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leaves the ribosome</a:t>
            </a:r>
            <a:endParaRPr b="0" lang="en-US" sz="1800" spc="-1" strike="noStrike">
              <a:solidFill>
                <a:srgbClr val="000000"/>
              </a:solidFill>
              <a:latin typeface="Gill Sans MT"/>
            </a:endParaRPr>
          </a:p>
        </p:txBody>
      </p:sp>
      <p:pic>
        <p:nvPicPr>
          <p:cNvPr id="344" name="Picture 2" descr="http://scienceaid.co.uk/biology/genetics/images/translation.jpg"/>
          <p:cNvPicPr/>
          <p:nvPr/>
        </p:nvPicPr>
        <p:blipFill>
          <a:blip r:embed="rId1"/>
          <a:stretch/>
        </p:blipFill>
        <p:spPr>
          <a:xfrm>
            <a:off x="5599080" y="3713040"/>
            <a:ext cx="3397320" cy="237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Janine</cp:lastModifiedBy>
  <dcterms:modified xsi:type="dcterms:W3CDTF">2011-10-30T21:18:30Z</dcterms:modified>
  <cp:revision>38</cp:revision>
  <dc:subject/>
  <dc:title>Teaching the Concept of Protein Synthesis Rebecca Lostracco Jacqueline McCann</dc:title>
</cp:coreProperties>
</file>